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DBF-A4B9-4859-BB9E-50AEE77C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A65-7442-435F-8ED3-414C66FD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926-0186-46FB-BFC7-6D33BB91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67D-3A8E-4A02-989A-56A5A227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E6F9-7DC9-4926-912E-4C0B6FB6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3CE5-0AB5-4B78-BB1A-9B59562F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A4B9-49C6-492C-A1DC-CD4596DC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842C-D399-493A-A762-8F35CD1B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D6E-A5CF-4486-92C5-98F1C2C2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98BC-EE01-4C3F-8F5F-D7DAE45E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ACC2-4496-469E-9B08-4C9E6EC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45A-122D-4A89-8F88-5F7E991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487E-BD6B-4CA7-8B94-0A420D9F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3A1E-1856-43E5-8670-D9515347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DA44-65AC-4241-809D-044960CC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B9C-8FEF-4D30-9B17-2CD063F5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19DB-582C-41DE-96F2-2F19CAAA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F54E-CB4D-4B34-ADDB-4B26C797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26B9-B1C9-4DCC-9791-E32A09CD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9C0C-1B7D-47C4-8886-F51B4D6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DAF6-29F7-4E6E-94CD-2A02C48D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E769-B461-42F6-8EEA-BC834154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847-700F-467D-A35B-17CC8D8F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14BF-EF51-449B-B2DC-66386FD2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B010-E598-43C1-86E3-DB7D62F3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83B3-CCD4-41B1-9B50-4330530B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0374-3F32-4A7E-A84E-918C2BB4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DC2A-7ED3-4AA3-9150-BF222D8D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60CDB-9F83-4191-A1D6-A5293279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AA71-3013-4A76-94C3-B060C7D5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C678-E33B-411A-95E5-E4E8E1BF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0586-5BA6-488D-95E4-7B5AA35C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DA577-F454-482A-9C4F-3655D59A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18E-53F8-4809-AC5E-673D2447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E187-C343-4AB6-AAB1-A3AA735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87B1-3AB9-4035-B4C9-9700F477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ED10-459C-460B-BAE0-401632F8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9800D-55FE-4C40-A794-82E3278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CC173-7F5B-48E7-A23F-3B0B278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73CC3-E76C-4751-A3C8-7055F18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B955-208D-4F7D-AAB8-C9A7ABE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478E-2523-460E-92E7-C74F7E77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AF48-B243-47C4-8FCD-C1F2B0F7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98E-D0B9-4C90-AEA4-3800D5D1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B5A-0284-4497-9BD8-E90EA45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CE0-23F6-48DE-9C6F-187CA006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26A-4FBA-45A8-A117-B520CDF7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D19-5B2F-45DE-9E22-4ECB570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D9668-8BBA-44A6-AC6C-C8709CA29B3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86B12-0C5F-49C8-97A4-3A8E63F9E27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46D40-BD86-446D-B932-3FF1B9BFD0D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E7A88-CD1E-4A36-ADDE-52F285208A9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865656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rebuchet MS"/>
              </a:rPr>
              <a:t>Особенности построения мониторинга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rebuchet MS"/>
              </a:rPr>
              <a:t>Как использовать результаты ВПР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126880" y="446040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Trebuchet MS"/>
              </a:rPr>
              <a:t>зам. директора по УВ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Trebuchet MS"/>
              </a:rPr>
              <a:t>МБОУ «Гатчинская СОШ № 2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3f7819"/>
                </a:solidFill>
                <a:latin typeface="Trebuchet MS"/>
              </a:rPr>
              <a:t>Кульбака Галина Борис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11280" y="1481040"/>
            <a:ext cx="7532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Documents and Settings\57\Мои документы\Мои рисунки\13-27.jpg"/>
          <p:cNvPicPr/>
          <p:nvPr/>
        </p:nvPicPr>
        <p:blipFill>
          <a:blip r:embed="rId1"/>
          <a:stretch/>
        </p:blipFill>
        <p:spPr>
          <a:xfrm>
            <a:off x="879480" y="750960"/>
            <a:ext cx="83469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"/>
          <p:cNvPicPr/>
          <p:nvPr/>
        </p:nvPicPr>
        <p:blipFill>
          <a:blip r:embed="rId1"/>
          <a:srcRect l="0" t="0" r="67736" b="0"/>
          <a:stretch/>
        </p:blipFill>
        <p:spPr>
          <a:xfrm>
            <a:off x="3043080" y="746280"/>
            <a:ext cx="36752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3f7819"/>
                </a:solidFill>
                <a:latin typeface="Trebuchet MS"/>
              </a:rPr>
              <a:t>Формирование и развитие компетентностей педагогов через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1911240"/>
            <a:ext cx="85964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рсы повышения квалификации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частие в вебинарах, семинарах, мастер-классах...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мен опытом по оцениванию работ в рамках ШМО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ставление КИМ с критериальной базой для проведения промежуточной аттестации в ОУ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язательное коллективное обсуждение критериев оценивания перед проверкой работ (например, учителя русского языка 5-х классов)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бота в качестве учителей-экспертов региональных и территориальных предметных комисс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нформальное образова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96c16"/>
                </a:solidFill>
                <a:latin typeface="Trebuchet MS"/>
              </a:rPr>
              <a:t>Цели проведения ВПР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7880" y="1600200"/>
            <a:ext cx="92613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ценить уровень общеобразовательной подготовки по предмету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существить диагностику предметных, метапредметных результатов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пределить уровень овладения межпредметными понятиями, способностью использовать УУД в учебной, познавательной, социальной практик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57\Мои документы\Мои рисунки\get_file (24).png"/>
          <p:cNvPicPr/>
          <p:nvPr/>
        </p:nvPicPr>
        <p:blipFill>
          <a:blip r:embed="rId1"/>
          <a:stretch/>
        </p:blipFill>
        <p:spPr>
          <a:xfrm>
            <a:off x="703440" y="374760"/>
            <a:ext cx="857088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96c16"/>
                </a:solidFill>
                <a:latin typeface="Arial"/>
              </a:rPr>
              <a:t>Результаты ВПР </a:t>
            </a:r>
            <a:br>
              <a:rPr sz="2400"/>
            </a:br>
            <a:r>
              <a:rPr b="0" lang="ru-RU" sz="2400" spc="-1" strike="noStrike">
                <a:solidFill>
                  <a:srgbClr val="396c16"/>
                </a:solidFill>
                <a:latin typeface="Arial"/>
              </a:rPr>
              <a:t>по истории</a:t>
            </a:r>
            <a:br>
              <a:rPr sz="2400"/>
            </a:br>
            <a:r>
              <a:rPr b="0" lang="ru-RU" sz="2400" spc="-1" strike="noStrike">
                <a:solidFill>
                  <a:srgbClr val="396c16"/>
                </a:solidFill>
                <a:latin typeface="Arial"/>
              </a:rPr>
              <a:t> в 5 классах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Диаграмма 2" descr=""/>
          <p:cNvPicPr/>
          <p:nvPr/>
        </p:nvPicPr>
        <p:blipFill>
          <a:blip r:embed="rId1"/>
          <a:srcRect l="0" t="0" r="0" b="-43"/>
          <a:stretch/>
        </p:blipFill>
        <p:spPr>
          <a:xfrm>
            <a:off x="5745240" y="2575080"/>
            <a:ext cx="644688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Object 6"/>
          <p:cNvGraphicFramePr/>
          <p:nvPr/>
        </p:nvGraphicFramePr>
        <p:xfrm>
          <a:off x="220680" y="262080"/>
          <a:ext cx="6524640" cy="34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680" y="262080"/>
                    <a:ext cx="65246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5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96c16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6200" y="1245960"/>
            <a:ext cx="85960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соответствие уровня качества знаний и успеваемости уровню выполнения работы – критериальная база не совершенн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ложность работы заключалась во взаимосвязи темы заданий 4-7, хотя по содержанию данная связь не прослеживается. Обучающиеся путаются при выполнении данных заданий, даже зная материа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6c16"/>
                </a:solidFill>
                <a:latin typeface="Trebuchet MS"/>
              </a:rPr>
              <a:t>Русский язык. 5 классы. Октябрь, апрель 2018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Диаграмма 2" descr=""/>
          <p:cNvPicPr/>
          <p:nvPr/>
        </p:nvPicPr>
        <p:blipFill>
          <a:blip r:embed="rId1"/>
          <a:stretch/>
        </p:blipFill>
        <p:spPr>
          <a:xfrm>
            <a:off x="1722600" y="1541520"/>
            <a:ext cx="78120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7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96c16"/>
                </a:solidFill>
                <a:latin typeface="Trebuchet MS"/>
              </a:rPr>
              <a:t>Вывод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520" y="1869840"/>
            <a:ext cx="92170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значительное повышение результатов в 5-5 кл.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5-1,5-2, 5-3,5-4 снижение результатов освоения программы по русскому языку по сравнению с входной диагностической работой (ВПР)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ъясняется сложностью и объемностью итоговой работы и недостаточным количеством отведенного времени ( 12 заданий - 60 минут). Во входной работе было 5 заданий и 45 минут времен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1280" y="1257120"/>
            <a:ext cx="10388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3f7819"/>
                </a:solidFill>
                <a:latin typeface="Trebuchet MS"/>
              </a:rPr>
              <a:t>Мониторинг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– это система мер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о непрерывному отслеживанию качества результатов освоения основной образовательной программы, их соответствия требованиям ФГОС общего образов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96c16"/>
                </a:solidFill>
                <a:latin typeface="Trebuchet MS"/>
              </a:rPr>
              <a:t>Рекомендации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7880" y="1391760"/>
            <a:ext cx="92203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чителям продолжить отработку на практике пунктуационных и орфографических норм, познавательных и регулятивных УУД (умение классифицировать согласные звуки по мягкости–твердости в результате частичного фонетического анализа (учебно-языковые опознавательные и классификационные умения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вивать у обучающихся умение адекватно самостоятельно оценивать правильность выполнения действия и вносить необходимые коррективы – осуществлять самоконтрол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5-4 и 5-5 классах также обратить внимание на развитие  умения делить слова на морфемы на основе смыслового и грамматического анализа слова, графически обозначать выявленные морфемы, умения распознавать изученные части речи в предложен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Диаграмма 5" descr=""/>
          <p:cNvPicPr/>
          <p:nvPr/>
        </p:nvPicPr>
        <p:blipFill>
          <a:blip r:embed="rId1"/>
          <a:stretch/>
        </p:blipFill>
        <p:spPr>
          <a:xfrm>
            <a:off x="0" y="0"/>
            <a:ext cx="8577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 переходе из начальной школы в основную в 5-6 классах наблюдается отрицательная динамика результатов, что объясняется следующими причинами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даптац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изкий уровень преемственности программного материала и системы оцени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сложнение программы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полняемость классов 29-30 челове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96c16"/>
                </a:solidFill>
                <a:latin typeface="Trebuchet MS"/>
              </a:rPr>
              <a:t>Управленческие решения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7520" y="1515960"/>
            <a:ext cx="85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заимодействие с Гатчинской НОШ №5 по обеспечению преемственности в формах и методах оценивания результатов обучаю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Активизация работы с родителями по повышению мотивации обучающихся, привлечение педагога-психолога, социального педагог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шение, принятое  на ШМО - т.к. ВПР входят в рабочий режим, формат заданий ВПР целесообразно использовать при отработке программного материала на практик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396c16"/>
                </a:solidFill>
                <a:latin typeface="Trebuchet MS"/>
              </a:rPr>
              <a:t>Проблема - риск получения недостоверных результатов</a:t>
            </a: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Решени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здание независимой комиссии по проверке работ (учителя, не работающие в данной параллели)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мен работами между учителями в рамках одной параллели,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проверке участвуют учителя, ведущие предмет в данном классе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3f7819"/>
                </a:solidFill>
                <a:latin typeface="Trebuchet MS"/>
              </a:rPr>
              <a:t>Спасибо за внимание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f7819"/>
                </a:solidFill>
                <a:latin typeface="Trebuchet MS"/>
              </a:rPr>
              <a:t>Структура мониторинга как вида образовательной деятельно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7" name="Содержимое 7" descr=""/>
          <p:cNvPicPr/>
          <p:nvPr/>
        </p:nvPicPr>
        <p:blipFill>
          <a:blip r:embed="rId1"/>
          <a:stretch/>
        </p:blipFill>
        <p:spPr>
          <a:xfrm>
            <a:off x="669960" y="2152800"/>
            <a:ext cx="97902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f7819"/>
                </a:solidFill>
                <a:latin typeface="Trebuchet MS"/>
              </a:rPr>
              <a:t>Алгоритм проведения мониторинга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186696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суждение актуальны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ка (актуализация системы показателей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бор данных, верификац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ичная (математическая) обработк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ая обработка (доклады, инфографика, рейтинги, базы данных…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f7819"/>
                </a:solidFill>
                <a:latin typeface="Trebuchet MS"/>
              </a:rPr>
              <a:t>Кого,  что  мы  мониторим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9040" y="1879560"/>
            <a:ext cx="8596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Людей (ученики, педагог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цесс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пецифические процесс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езульта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ффек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f7819"/>
                </a:solidFill>
                <a:latin typeface="Trebuchet MS"/>
              </a:rPr>
              <a:t>Зачем мониторим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оцен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расширенной оцен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планирова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проектирова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развит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оптимиза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коррек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f7819"/>
                </a:solidFill>
                <a:latin typeface="Trebuchet MS"/>
              </a:rPr>
              <a:t>Аналитические приемы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175104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бобщени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Контекстуализац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Динамический анализ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Сопоставительный анализ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Кластеризац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ценка значимости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"/>
          <p:cNvPicPr/>
          <p:nvPr/>
        </p:nvPicPr>
        <p:blipFill>
          <a:blip r:embed="rId1"/>
          <a:stretch/>
        </p:blipFill>
        <p:spPr>
          <a:xfrm>
            <a:off x="2508120" y="374760"/>
            <a:ext cx="49752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1641600" y="752400"/>
            <a:ext cx="58928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9T17:23:35Z</dcterms:created>
  <dc:creator>Windows User</dc:creator>
  <dc:description/>
  <dc:language>en-US</dc:language>
  <cp:lastModifiedBy>Galya</cp:lastModifiedBy>
  <dcterms:modified xsi:type="dcterms:W3CDTF">2005-08-16T00:12:46Z</dcterms:modified>
  <cp:revision>38</cp:revision>
  <dc:subject/>
  <dc:title>Особенности построения мониторинга. Как использовать  результаты ВПР</dc:title>
</cp:coreProperties>
</file>