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9A7-5772-42D2-B90C-51FB4EE8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C0E-D9F5-463B-9EBA-80372AC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E7C-5988-42A5-B651-522DDCE0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91F-01A2-4E38-ADC0-0041772C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A7C-D24E-4AE6-955F-131597B2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907-9DA4-46F2-BD24-3E0C248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D1C-344A-459A-BDDC-354F8DF4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4F4-ED84-4DA3-A854-B65DC24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118-7AA1-4907-B034-36724B22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859-1C06-4650-A102-FE3C689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990-7DB6-4674-86EC-DCC0F9F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CFD-BB1D-4480-9A65-23666108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F0A9-EF53-4E93-93E0-862E44802C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808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Решение задач на дроби и проценты</a:t>
            </a:r>
            <a:br>
              <a:rPr sz="32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с использованием материалов по краеведению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87640" y="4847760"/>
            <a:ext cx="397188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рок учителя математики МБОУ Гатчинская СОШ №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омовой Натальи Андреев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WordArt 19"/>
          <p:cNvSpPr txBox="1"/>
          <p:nvPr/>
        </p:nvSpPr>
        <p:spPr>
          <a:xfrm>
            <a:off x="6516720" y="1628640"/>
            <a:ext cx="1047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тчин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22" descr="q1"/>
          <p:cNvPicPr/>
          <p:nvPr/>
        </p:nvPicPr>
        <p:blipFill>
          <a:blip r:embed="rId1"/>
          <a:stretch/>
        </p:blipFill>
        <p:spPr>
          <a:xfrm>
            <a:off x="755640" y="1700280"/>
            <a:ext cx="3618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Рисунок2"/>
          <p:cNvPicPr/>
          <p:nvPr/>
        </p:nvPicPr>
        <p:blipFill>
          <a:blip r:embed="rId2"/>
          <a:stretch/>
        </p:blipFill>
        <p:spPr>
          <a:xfrm>
            <a:off x="6372360" y="2000160"/>
            <a:ext cx="17809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Tahoma"/>
              </a:rPr>
              <a:t>Самостоятельная рабо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1.   Зная, что 1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4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площади Дворцового парка  занимают озера, а площадь Дворцового парка равна 143 га, найдите площадь озер. Ответ  округлите до единиц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2.   Площадь Дворцового парка 140 га, и она составляет 20% площади   всего Дворцово - паркового ансамбля. Найдите площадь Дворцово -  паркового ансамбл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3.    Площадь Белого озера 20 га. Площадь водного массива перед Гатчинским дворцом 36 га. Какую часть составляет площадь Белого озера от площади всего водного массива?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ополнительное задание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дворцово-паркового  ансамбля, зная что его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занимает парк Зверинец,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8/15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остатка – занимает Приоратский парк, а  оставшиеся 140 га занимает Дворцовый парк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1.   Площадь Белого озера 20 га, и она составляе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5/9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от площади водного  массива, расположенного перед Гатчинским дворцом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этого водного массива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.   Площадь Дворцово - паркового ансамбля 700 га, 22% от этой площади занимает Приоратский парк. Найдите площадь Приоратского парка.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3.    Площадь Дворцового парка 143 га, площадь Верхнего Голландского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сада 2,6 га.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Какую часть составляет площадь Голландского сада о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площади Дворцового парка?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Дополнительное задание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Найдите площадь дворцово-паркового  ансамбля, зная что  его 1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5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занимает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Дворцовый парк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 ,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5/7 </a:t>
            </a: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остатка – занимает парк Зверинец, а  оставшиеся 160 га занимает Приоратский парк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5ffff"/>
                </a:solidFill>
                <a:latin typeface="Tahoma"/>
              </a:rPr>
              <a:t>Ответы и решения к самостоятельной работе</a:t>
            </a: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вариант: ≈ 36га;  700га;  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 ч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вариант:     36га;  154га ;  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5 ч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,6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43=26/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3=1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/1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=1/5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3/4=3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5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≈36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шение дополнительной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спосо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1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части)-остат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/15=8/3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-всего ансамбля занимает Приора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7+8/35=28/35=4/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-всего ансамбля занимают Приорат и Зверинец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1-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5=1/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ь)-всего ансамбля занимает Дворцовый парк, и это по условию 140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 140: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=140 ∙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=700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площадь всего ансамб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 700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– остаток, тог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 1-8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=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/15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ь) остатка занимает Дворцовый пар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это по условию14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 14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7/15=140/1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/7=300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) оста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 1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/7=3/7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и) остато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он равен 30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 30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3/7=300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3=300/1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∙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/3=700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) площадь всего ансамб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700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118880" y="714240"/>
            <a:ext cx="53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ение дополнительной задачи 2 вариан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0" y="1928880"/>
            <a:ext cx="8942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)1-1/5=4/5(части) оста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)4/5*5/7=4/7 (части)занимает парк Зверинец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)1/5+4/7=27/35 (части) занимают Дворцовый парк и парк Зверин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)1-27/35=8/35(части) занимает Приоратский пар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)160:8/35=160*35/8=700(га) площадь дворцово-паркового ансамбл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:700 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Урок: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«Решение задач на дроби и проценты по материалам краеведения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981080"/>
            <a:ext cx="818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Тип урока: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ительно-обобщающий (комбинированный) ур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: повторить типы задач на дроби и проценты, используя задания, связанные с г. Гатчи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Задачи урок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зовательны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ение и закрепление умения решать задачи на дроби и процен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торение понятия НОД и НОК, признаков делимости, простых и составных чис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внимание, логику, памя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умение грамотно излагать свои мысли в устной и письменной реч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вать умение применять знания в нестандартной ситу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питательные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действовать воспитанию чувства гордости, восхищения, любви к родному городу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ширять кругозор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вивать интерес к предме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борудование к уроку: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льтимедийный проектор, компьютер, экран, карточ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457200" y="380880"/>
            <a:ext cx="8229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Числа близне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а простых числа,  разность которых равна 2, называют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близнец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133720"/>
          <a:ext cx="8785440" cy="4465440"/>
        </p:xfrm>
        <a:graphic>
          <a:graphicData uri="http://schemas.openxmlformats.org/drawingml/2006/table">
            <a:tbl>
              <a:tblPr/>
              <a:tblGrid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  <a:gridCol w="417600"/>
                <a:gridCol w="41904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1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5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2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3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4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0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5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6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7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8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5050"/>
                          </a:solidFill>
                          <a:latin typeface="Tahoma"/>
                        </a:rPr>
                        <a:t>9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Eurasia"/>
              </a:rPr>
              <a:t>Математический диктан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1) Расстояние от Санкт-Петербурга до Гатчины равно  НОК(5 и 9).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2) Запишите Площадь парка Сильвия, зная, что она больше 15 га, и это число, расположенное между числами близнецами второго десят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3) По данным одной из книг о Гатчине площадь Дворцового парка 143 га, а площадь. Приоратского парка 154 га. Чем интересны эти числа? Что общего у них? Запишите НОД(143 и 154).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4) Запишите половину НОК(143 и 154).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5) Вы запишете год, в котором был посажен самый старый дуб в Гатчин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н растёт на Серебряном лугу перед Гатчинским дворцом. Известно, что он был посажен более двухсот и менее трёхсот лет назад. Вы легко запишете две первые цифры. Третья цифра равна сумме двух первых, а четвёртая – единственное чётное простое число.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6) Запишите высоту Адмиралтейских ворот, зная, что она составляет 130% от высоты Чесменского обелиска, а его высота 10 м.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7) Если год посадки дуба делится и на 2, и на 9, то запишите произведение двух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евяти; если не делится, то запишите 0.</a:t>
            </a:r>
            <a:r>
              <a:rPr b="0" i="1" lang="ru-RU" sz="1800" spc="-1" strike="noStrike">
                <a:solidFill>
                  <a:srgbClr val="ffffff"/>
                </a:solidFill>
                <a:latin typeface="Shruti"/>
              </a:rPr>
              <a:t>    </a:t>
            </a:r>
            <a:r>
              <a:rPr b="0" i="1" lang="ru-RU" sz="1600" spc="-1" strike="noStrike">
                <a:solidFill>
                  <a:srgbClr val="ffffff"/>
                </a:solidFill>
                <a:latin typeface="Shruti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7" dur="indefinite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7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4" dur="indefinite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7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8" dur="indefinite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тветы к математическому диктанту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) 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)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) 1001(=7∙11∙1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) 178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)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) 1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5840" y="3000240"/>
          <a:ext cx="8643960" cy="741600"/>
        </p:xfrm>
        <a:graphic>
          <a:graphicData uri="http://schemas.openxmlformats.org/drawingml/2006/table">
            <a:tbl>
              <a:tblPr/>
              <a:tblGrid>
                <a:gridCol w="657000"/>
                <a:gridCol w="658800"/>
                <a:gridCol w="750960"/>
                <a:gridCol w="657360"/>
                <a:gridCol w="1128600"/>
                <a:gridCol w="750960"/>
                <a:gridCol w="1127160"/>
                <a:gridCol w="752400"/>
                <a:gridCol w="1127160"/>
                <a:gridCol w="10335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перво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57" name="Organization Chart 7"/>
          <p:cNvGrpSpPr/>
          <p:nvPr/>
        </p:nvGrpSpPr>
        <p:grpSpPr>
          <a:xfrm>
            <a:off x="431640" y="2314440"/>
            <a:ext cx="8208720" cy="1784520"/>
            <a:chOff x="431640" y="2314440"/>
            <a:chExt cx="8208720" cy="178452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838120" y="1789200"/>
              <a:ext cx="229320" cy="283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09168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3004560" y="1789200"/>
              <a:ext cx="229320" cy="2834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2668680" y="2314440"/>
              <a:ext cx="37350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7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/7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26520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8/35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099120" y="3321000"/>
              <a:ext cx="254124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20%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" name="WordArt 17"/>
          <p:cNvSpPr txBox="1"/>
          <p:nvPr/>
        </p:nvSpPr>
        <p:spPr>
          <a:xfrm>
            <a:off x="539640" y="4581360"/>
            <a:ext cx="8209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второ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7" name="Organization Chart 7"/>
          <p:cNvGrpSpPr/>
          <p:nvPr/>
        </p:nvGrpSpPr>
        <p:grpSpPr>
          <a:xfrm>
            <a:off x="431640" y="2314440"/>
            <a:ext cx="8243640" cy="2660760"/>
            <a:chOff x="431640" y="2314440"/>
            <a:chExt cx="8243640" cy="2660760"/>
          </a:xfrm>
        </p:grpSpPr>
        <p:cxnSp>
          <p:nvCxnSpPr>
            <p:cNvPr id="68" name="_s2052"/>
            <p:cNvCxnSpPr>
              <a:stCxn id="69" idx="0"/>
              <a:endCxn id="70" idx="2"/>
            </p:cNvCxnSpPr>
            <p:nvPr/>
          </p:nvCxnSpPr>
          <p:spPr>
            <a:xfrm flipV="1" rot="16200000">
              <a:off x="5864040" y="1460880"/>
              <a:ext cx="229320" cy="2849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2053"/>
            <p:cNvCxnSpPr>
              <a:stCxn id="72" idx="0"/>
              <a:endCxn id="70" idx="2"/>
            </p:cNvCxnSpPr>
            <p:nvPr/>
          </p:nvCxnSpPr>
          <p:spPr>
            <a:xfrm flipV="1">
              <a:off x="4554720" y="2770920"/>
              <a:ext cx="288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2054"/>
            <p:cNvCxnSpPr>
              <a:stCxn id="74" idx="0"/>
              <a:endCxn id="70" idx="2"/>
            </p:cNvCxnSpPr>
            <p:nvPr/>
          </p:nvCxnSpPr>
          <p:spPr>
            <a:xfrm flipH="1" flipV="1" rot="5400000">
              <a:off x="3014640" y="1460160"/>
              <a:ext cx="229320" cy="285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0" name="_s2055"/>
            <p:cNvSpPr/>
            <p:nvPr/>
          </p:nvSpPr>
          <p:spPr>
            <a:xfrm>
              <a:off x="2373120" y="2314440"/>
              <a:ext cx="4359960" cy="4572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  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r>
                <a:rPr b="1" lang="en-US" sz="1600" spc="-1" strike="noStrike">
                  <a:solidFill>
                    <a:srgbClr val="ffffff"/>
                  </a:solidFill>
                  <a:latin typeface="Garamond"/>
                </a:rPr>
                <a:t>     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2056"/>
            <p:cNvSpPr/>
            <p:nvPr/>
          </p:nvSpPr>
          <p:spPr>
            <a:xfrm>
              <a:off x="43164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Garamond"/>
                </a:rPr>
                <a:t>   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4/7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        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400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га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2057"/>
            <p:cNvSpPr/>
            <p:nvPr/>
          </p:nvSpPr>
          <p:spPr>
            <a:xfrm>
              <a:off x="328032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8/35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160 г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2058"/>
            <p:cNvSpPr/>
            <p:nvPr/>
          </p:nvSpPr>
          <p:spPr>
            <a:xfrm>
              <a:off x="6129000" y="3000240"/>
              <a:ext cx="2546280" cy="10382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20%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ffffff"/>
                  </a:solidFill>
                  <a:latin typeface="Garamond"/>
                </a:rPr>
                <a:t>140 г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WordArt 15"/>
            <p:cNvSpPr txBox="1"/>
            <p:nvPr/>
          </p:nvSpPr>
          <p:spPr>
            <a:xfrm>
              <a:off x="467280" y="4508640"/>
              <a:ext cx="82080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формулируйте три задачи по данному плакату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76" name="WordArt 17"/>
          <p:cNvSpPr txBox="1"/>
          <p:nvPr/>
        </p:nvSpPr>
        <p:spPr>
          <a:xfrm>
            <a:off x="539640" y="4533840"/>
            <a:ext cx="82090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 третьего ти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431640" y="2314440"/>
            <a:ext cx="8208360" cy="1784520"/>
            <a:chOff x="431640" y="2314440"/>
            <a:chExt cx="8208360" cy="1784520"/>
          </a:xfrm>
        </p:grpSpPr>
        <p:cxnSp>
          <p:nvCxnSpPr>
            <p:cNvPr id="79" name="_s3076"/>
            <p:cNvCxnSpPr>
              <a:stCxn id="80" idx="0"/>
              <a:endCxn id="81" idx="2"/>
            </p:cNvCxnSpPr>
            <p:nvPr/>
          </p:nvCxnSpPr>
          <p:spPr>
            <a:xfrm flipV="1" rot="16200000">
              <a:off x="5843520" y="1783800"/>
              <a:ext cx="229320" cy="2845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2" name="_s3077"/>
            <p:cNvCxnSpPr>
              <a:stCxn id="83" idx="0"/>
              <a:endCxn id="81" idx="2"/>
            </p:cNvCxnSpPr>
            <p:nvPr/>
          </p:nvCxnSpPr>
          <p:spPr>
            <a:xfrm flipV="1">
              <a:off x="4536000" y="309168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4" name="_s3078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2998800" y="1783440"/>
              <a:ext cx="229320" cy="2845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1" name="_s3079"/>
            <p:cNvSpPr/>
            <p:nvPr/>
          </p:nvSpPr>
          <p:spPr>
            <a:xfrm>
              <a:off x="1872360" y="2314440"/>
              <a:ext cx="53298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о-парковый ансамбл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7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3080"/>
            <p:cNvSpPr/>
            <p:nvPr/>
          </p:nvSpPr>
          <p:spPr>
            <a:xfrm>
              <a:off x="431640" y="3321000"/>
              <a:ext cx="251892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Парк Зверинец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40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3081"/>
            <p:cNvSpPr/>
            <p:nvPr/>
          </p:nvSpPr>
          <p:spPr>
            <a:xfrm>
              <a:off x="3276720" y="3321000"/>
              <a:ext cx="251892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Приоратски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6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3082"/>
            <p:cNvSpPr/>
            <p:nvPr/>
          </p:nvSpPr>
          <p:spPr>
            <a:xfrm>
              <a:off x="6121800" y="3321000"/>
              <a:ext cx="2518200" cy="777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Дворцовый парк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140 г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" name="WordArt 15"/>
          <p:cNvSpPr txBox="1"/>
          <p:nvPr/>
        </p:nvSpPr>
        <p:spPr>
          <a:xfrm>
            <a:off x="539640" y="4653000"/>
            <a:ext cx="8209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формулируйте три задачи по данному плакат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14:18:29Z</dcterms:created>
  <dc:creator>Влад</dc:creator>
  <dc:description/>
  <dc:language>en-US</dc:language>
  <cp:lastModifiedBy>Owner</cp:lastModifiedBy>
  <dcterms:modified xsi:type="dcterms:W3CDTF">2022-10-17T05:01:55Z</dcterms:modified>
  <cp:revision>72</cp:revision>
  <dc:subject/>
  <dc:title>Решение задач на дроби и проценты с использованием материалов по краеведению</dc:title>
</cp:coreProperties>
</file>