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5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5F9-E45C-4EAB-8B1D-EFCD1A3F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764-5A8A-4FDC-BB58-69E025D8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A5CB5-4337-4D5F-AED5-7A6684B5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F74B5-5BA0-47D5-AF0F-36BBE625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3F3B0-374D-4644-A54C-1F8E3255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FF0CA-6829-460F-AB43-75747EC0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06A04-5AED-47CC-A57E-86A257EC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928C6-B522-45B4-851B-B4E472AC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305AE-8054-490B-BFBF-557E44F2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0D47C-8BA3-489D-9AEB-0B38F45D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F1A29-1C51-49F9-8DD9-8AACE059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C5C67-CA51-42A5-A325-BAB7CCAF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BA8-4510-4DAE-A7DC-51B673AB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7E27E-78C2-4CA6-A9C6-6C50FD8D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EFAE8-11FA-4CF3-8319-36817355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80055-B150-4711-B28E-76E9B3CA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69C80-8A2B-496D-8EEB-A7017F3B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A0EF7-A3A7-4D64-9D63-4578354B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EECBD-A7E0-4D67-866F-F1511906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F6B35-3725-49B2-B35E-55B2A750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A733F-9987-401E-9743-895D6904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C24EE-D99E-41CB-AB38-7F5D6E9F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2A6D5-0A3B-4405-8A88-3B144A98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FB7-0539-4DC6-A29B-E8E574B7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38B27-049E-4A9E-9E0B-7810354B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32FFD-48F0-483A-ADBA-3670E04D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B1C68-F714-4331-94A6-406AEE6B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A1A7A-AE53-4045-BD9D-F2896ABF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A7677-44F2-4EA5-BCC6-266F8026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36E5D-9C0E-45A1-9B09-F95D0984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22A3C-167D-4B77-9F14-693488BC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BD878-A657-4B49-B3A6-538DAC3E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11DB7-1923-43D8-B1D3-32EF16E4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8C1B6-2013-4036-8763-B24A03BD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42D47-BCAD-4823-960C-D63EB0A4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B549E-38C2-4BFF-A21C-8AFA57E2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D6406-9D46-4000-BBAF-105F12D6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C5CFD-74DF-4E8E-8066-A1E8344F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B12FD-ED9A-4B90-AED2-0871EEF6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0FBC5-1334-4A48-9C6A-1DB598B9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28154-F618-4B38-AD65-1EF3A69A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53B0D-A8A9-4855-B291-1D05DAD4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A77B4-8C21-492D-91BE-0F169240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BD05D-EC7B-42CC-AC02-58B8AF6D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D7106-A192-47E1-A0E1-FDC2355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36F36-C023-425B-864F-36671406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B86C8-F48C-4892-BAF0-EDD52FC1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F892F-5C21-4280-BDA3-CA741716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DB6D9-1BF4-40DC-A3F9-D4CAD70E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26144-B482-45D7-9E18-9BA33697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4B21C-B9BA-48EF-A2FC-03D42F0B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24701-A869-45E8-8C4C-E3749AE9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3E49C-1BA1-443A-ACFC-16CDFECC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CD49A-77AC-41F7-A608-5C7FCB25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423E2-2509-47F4-8C35-7E9E663F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EFD35-53B6-49EB-B413-15F2F83C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E4F-03EC-4CB2-83EC-FFE7AB2D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C94A2-F378-40D3-985F-63717AC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592CA-4FFC-4F07-8B44-8EC0A188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43319-33B3-4AB4-9C26-DAEC9247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386EA-C539-4863-AA3B-33BCF6D7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182F9-47D2-41C5-9989-611AA870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5BDF1C-A6CA-4FB1-A73B-C48A60EB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5FA063-A7C1-4A18-A6C4-FF6F7C5C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82019-15F6-46BE-93B1-35C181A6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1CD49-D231-4360-A9EF-193FDD99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DE0139-8C22-4954-B73D-9830CBC5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A12-A83C-46A0-8034-BB453E5A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E41EC-B8A4-4F39-BA8B-DB533532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FD864-7C7F-46EB-8B72-6C3D11BE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CF2D6-2FC5-4D05-AE9D-02B0727F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D6B30-729C-425D-87D5-A36C4C63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D86BF-4A26-43B2-A0D4-C902D89D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E81D1-FAE3-4A11-88BC-9B3BC7B8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AF2CB-1ADB-4CF2-9209-E38F655F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BB45-E6C5-4A54-820A-ACA0630A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4F2AD-0A43-4016-9B86-FF4E5607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4A9E0-C218-4C11-99AB-3A175374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89D-92D4-4C3A-A702-C7BAB0D1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8654-1587-419B-97EA-C2DD27FE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302C7-F539-410B-A931-917C0689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B8187-444C-4429-80DC-8632AF08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793A-7B97-480F-BD12-8F576C89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70F22-FDFC-4692-B290-724D1975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EEA49-BD6E-4CE9-91ED-90287FEF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D08ED-DBD9-4EFE-86D8-FDA217CC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FD44A-962B-4222-889C-2F086D04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629F-E9BF-4671-B1FC-2D770ECC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A057-6253-47E0-B27A-DAFAA4EB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C71-6E0A-4F12-8EB7-83F63DC6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8294-5FFE-43CE-9D39-4218DE18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8E2A1-3F94-4B9F-B6CA-24879E98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47240-336F-4BBA-B3B4-A9E6E282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E3AD3-A69A-4C97-BA02-95AECE1A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80DA2-863D-437C-BB54-E24FD230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6A33-E957-45D4-9C66-D027571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F20C5-0C26-4F11-A291-AC7B727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E528B-2510-486F-8349-BA64E60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4EFBE-ABF4-4049-A3A8-C7F31746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BDEEF-0F67-48AC-A4B0-76A1C92D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C7B-F2E8-4DD0-9F03-C4DEFEB5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1F8E3-01D6-42B5-BE77-9266B399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4F437-BAB5-4661-A24B-41FDA5F8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86D84-19B8-4E81-8F01-3096C0F7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71564-AD74-451A-B5BA-782FCB01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7E697-5972-4DB4-A50A-47A2BA68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B010D-45EF-4093-BB5E-FF9BF4EE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21F60-1C69-45FA-AF3A-90D98B5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6989-338F-47A2-A13D-2ACD9CF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10172-F0C7-429A-8298-CA27B03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D7899-5124-4300-8F30-545DE84A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B9F-62C1-4F2A-BC1D-C376E97C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EB6D9-9F09-43D2-B0DA-510E76B1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4E3BE-B7A6-4F68-95F9-BA39EAB2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4EDF2-4AC6-4C36-B53A-67375929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63651-3936-4B42-9AC7-6807422F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9B26B-5A00-4F3E-89A9-280EE90D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43A06-DE05-4BDA-B537-1EB64263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13DD7-C1BF-4F3B-B087-60B8720A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F5997-49E4-437F-A159-A41CD76A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6341-4E60-41CF-BB0F-FFA1F21E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6DC6D-B335-42B1-AF02-451049AF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D27-AB98-4208-86C1-A007D72E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78D57-4025-460D-AEBB-935CF47D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3F5C-634E-4CE3-A947-1776305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1211A-3B71-44D4-B367-A22F644E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BB42B-208D-4630-894E-2CF08307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BEC55-A416-4DE5-97A4-4EF2B725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7FAD5-353E-477D-8471-830C0647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FCF72-3D33-4FEF-97C7-FED21064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10C47-FD26-4252-876C-32B01ED8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48684-4CDF-4C6E-976F-076BB985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F05A-A5EA-4C7E-A34A-E6EABD5C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120-5CAE-4B8D-902A-77A838B0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8F56A-A30B-44C6-9317-6CB2204C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5C1A8-9544-43ED-947E-50ACBDA8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7FA61-A015-4E62-82DC-F0E49DB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E6AA-12C5-4CED-9D16-47FBFF12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E20E3-CE87-4098-BD75-8B63DE30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06F5D-C3AB-46AA-AA1F-822CF3D7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56EC9-0D32-4303-9A31-2978BCE2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141A4-049A-4BE6-B34E-7AEEE7B3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FE341-050D-4365-9A2A-15EB4D3A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2A3EF-9D7A-4282-84B9-3FD05F57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BFAA-8B91-4C29-B735-1CC8DBE80E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5AF6-C4F8-425C-89D0-7DAEC69D0E4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3954-2570-46AA-98E5-59EC0D9BD4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8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A35C-0D68-4F6D-8569-9C6542EA37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6A75-F4E6-48EC-B76D-92659D1E42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39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2054-C608-4A9E-93F1-C8D193029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B3B3-8FD8-4DBF-9128-B9E023B4FB6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C61F-D35F-4EF9-8DA0-4C79E1A7B89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82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D7B8-7FE6-4E39-89D1-602073438A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2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3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3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38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4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4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88A5-FC8C-4465-B9E8-9F7376FB4C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E87E-D926-4061-A11B-1AE9A25D59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646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Rectangle 18"/>
            <p:cNvSpPr/>
            <p:nvPr/>
          </p:nvSpPr>
          <p:spPr>
            <a:xfrm flipH="1" flipV="1" rot="18391200">
              <a:off x="85366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4445-09C6-4ABC-9631-BCEA7EB6C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WordArt 5"/>
          <p:cNvSpPr txBox="1"/>
          <p:nvPr/>
        </p:nvSpPr>
        <p:spPr>
          <a:xfrm>
            <a:off x="2556000" y="2276640"/>
            <a:ext cx="4465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Задач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и пять методов е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3" name="Rectangle 8"/>
          <p:cNvSpPr/>
          <p:nvPr/>
        </p:nvSpPr>
        <p:spPr>
          <a:xfrm>
            <a:off x="2987640" y="54072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«Бенефис одной задачи»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179280" y="501336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ыполнил: Гаврилов Григорий,ученик 10 класса. 2021г.МБОУ «Гатчинская СОШ №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уководитель проекта  с использованием презентации 2011г.  Шатиловой Виктор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Громова Н. А.2021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/>
          </p:nvPr>
        </p:nvSpPr>
        <p:spPr>
          <a:xfrm>
            <a:off x="685800" y="1868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диану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 биссектрису  ВЕ треугольника АВС выразим через длины 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с сторон треугольника по формула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усть АВ=х, АЕ=у, тогда ВС=2х и СЕ=2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им систему уравнений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Rectangle 7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Object 6"/>
              <p:cNvSpPr txBox="1"/>
              <p:nvPr/>
            </p:nvSpPr>
            <p:spPr>
              <a:xfrm>
                <a:off x="5219640" y="2060640"/>
                <a:ext cx="187164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С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9" name="Rectangle 9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8"/>
              <p:cNvSpPr txBox="1"/>
              <p:nvPr/>
            </p:nvSpPr>
            <p:spPr>
              <a:xfrm>
                <a:off x="1908000" y="4797360"/>
                <a:ext cx="540072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сюда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11" name="Picture 10" descr="сканирование0001"/>
          <p:cNvPicPr/>
          <p:nvPr/>
        </p:nvPicPr>
        <p:blipFill>
          <a:blip r:embed="rId1"/>
          <a:stretch/>
        </p:blipFill>
        <p:spPr>
          <a:xfrm>
            <a:off x="5292720" y="3429000"/>
            <a:ext cx="3240000" cy="2246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12" name="WordArt 4"/>
          <p:cNvSpPr txBox="1"/>
          <p:nvPr/>
        </p:nvSpPr>
        <p:spPr>
          <a:xfrm>
            <a:off x="665280" y="-28440"/>
            <a:ext cx="666432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3. Аналитическ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107640" y="156816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означим АВ=х, угол АВС=2α. По теореме косинусов из треугольников АВЕ и ВСЕ находи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ывая, что СЕ=2АЕ или С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4А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аем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cos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cos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α=ВО, значит, ВО=3 и ОЕ=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таётся, пользуясь теоремой Пифагора, вычислить стороны треугольника АВ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Object 9"/>
              <p:cNvSpPr txBox="1"/>
              <p:nvPr/>
            </p:nvSpPr>
            <p:spPr>
              <a:xfrm>
                <a:off x="6443640" y="2349360"/>
                <a:ext cx="18734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14"/>
              <p:cNvSpPr txBox="1"/>
              <p:nvPr/>
            </p:nvSpPr>
            <p:spPr>
              <a:xfrm>
                <a:off x="1547640" y="4944960"/>
                <a:ext cx="388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16" name="Picture 17" descr="сканирование0001"/>
          <p:cNvPicPr/>
          <p:nvPr/>
        </p:nvPicPr>
        <p:blipFill>
          <a:blip r:embed="rId1"/>
          <a:stretch/>
        </p:blipFill>
        <p:spPr>
          <a:xfrm>
            <a:off x="5846760" y="4944960"/>
            <a:ext cx="2612880" cy="18115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117" name="WordArt 4"/>
          <p:cNvSpPr txBox="1"/>
          <p:nvPr/>
        </p:nvSpPr>
        <p:spPr>
          <a:xfrm>
            <a:off x="468360" y="-66600"/>
            <a:ext cx="738324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4. Тригонометрический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WordArt 15"/>
          <p:cNvSpPr txBox="1"/>
          <p:nvPr/>
        </p:nvSpPr>
        <p:spPr>
          <a:xfrm>
            <a:off x="1727280" y="476280"/>
            <a:ext cx="59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еометрический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9" name="Text Box 16"/>
          <p:cNvSpPr/>
          <p:nvPr/>
        </p:nvSpPr>
        <p:spPr>
          <a:xfrm>
            <a:off x="2627280" y="19414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1.С помощью площад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Text Box 17"/>
          <p:cNvSpPr/>
          <p:nvPr/>
        </p:nvSpPr>
        <p:spPr>
          <a:xfrm>
            <a:off x="1798560" y="29005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2. С помощью осевой симметри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Text Box 21"/>
          <p:cNvSpPr/>
          <p:nvPr/>
        </p:nvSpPr>
        <p:spPr>
          <a:xfrm>
            <a:off x="900000" y="38116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3. По теореме о средней линии треуголь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Text Box 23"/>
          <p:cNvSpPr/>
          <p:nvPr/>
        </p:nvSpPr>
        <p:spPr>
          <a:xfrm>
            <a:off x="2627280" y="477216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4. По теореме Менел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/>
          </p:nvPr>
        </p:nvSpPr>
        <p:spPr>
          <a:xfrm>
            <a:off x="3419280" y="1557360"/>
            <a:ext cx="540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Так как АО=О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=2, ВЕ=4 и А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перпендикулярна ВЕ, то площадь каждого из треугольников ВАЕ и В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Е равна 4. Площадь треугольника С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Е так же равна 4, так как медиана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делит треугольник ВСЕ на два равновеликих треугольника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Значит, площадь треугольника АВС равна 12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Поскольку А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-медиана треугольника АВС,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то площадь треугольника АВ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равна 6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Остаётся применить формулу площади треугольника. Получим: АО*ВО=6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Но АО=2, значит, ВО=3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Стороны треугольника АВС найдём по теореме Пифагора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Object 8"/>
              <p:cNvSpPr txBox="1"/>
              <p:nvPr/>
            </p:nvSpPr>
            <p:spPr>
              <a:xfrm>
                <a:off x="4308480" y="5759280"/>
                <a:ext cx="33116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5" name="Picture 11" descr="ва"/>
          <p:cNvPicPr/>
          <p:nvPr/>
        </p:nvPicPr>
        <p:blipFill>
          <a:blip r:embed="rId1"/>
          <a:stretch/>
        </p:blipFill>
        <p:spPr>
          <a:xfrm>
            <a:off x="324000" y="1916280"/>
            <a:ext cx="3311280" cy="3166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26" name="WordArt 4"/>
          <p:cNvSpPr txBox="1"/>
          <p:nvPr/>
        </p:nvSpPr>
        <p:spPr>
          <a:xfrm>
            <a:off x="971640" y="-192240"/>
            <a:ext cx="6696000" cy="15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5. С помощью площадей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-252720" y="1341360"/>
            <a:ext cx="4895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Точки А и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симметричны относительно биссектрисы ВЕ. Построим  еще точку, симметричную точке С относительно прямой ВЕ. Для этого продолжим отрезок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Е до пересечения с прямой АВ и обозначим через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точку пересечения прямых АВ и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Е. Получим равнобедренный треугольник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, из равенства треугольника ВЕ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и ВЕС следует, что В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=ВС. Продолжим еще биссектрису ВЕ до пересечения с 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в точке Н. Тогда ВН - биссектриса треугольника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, а следовательно, и его медиана. Таким образом, Е – точка пересечения медиан треугольника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и поэтому ЕН=0,5ВЕ=2, а ВН=6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Средняя линия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треугольника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елит медиану ВН пополам, поэтому ВО=3. Далее поступаем так же, как при решении задачи другими способами и получаем тот же ответ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Object 7"/>
              <p:cNvSpPr txBox="1"/>
              <p:nvPr/>
            </p:nvSpPr>
            <p:spPr>
              <a:xfrm>
                <a:off x="2771640" y="5805360"/>
                <a:ext cx="4464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9" name="Picture 10" descr="ва"/>
          <p:cNvPicPr/>
          <p:nvPr/>
        </p:nvPicPr>
        <p:blipFill>
          <a:blip r:embed="rId1"/>
          <a:stretch/>
        </p:blipFill>
        <p:spPr>
          <a:xfrm>
            <a:off x="4643280" y="1700280"/>
            <a:ext cx="3456000" cy="3305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30" name="WordArt 4"/>
          <p:cNvSpPr txBox="1"/>
          <p:nvPr/>
        </p:nvSpPr>
        <p:spPr>
          <a:xfrm>
            <a:off x="395280" y="-228600"/>
            <a:ext cx="741672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6. С помощью осевой симметрии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/>
          </p:nvPr>
        </p:nvSpPr>
        <p:spPr>
          <a:xfrm>
            <a:off x="4149360" y="1517760"/>
            <a:ext cx="46702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ведём среднюю линию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треугольника ВСЕ. Так как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параллельна ВЕ и АО=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Е – средняя линия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K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едовательно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 как ВЕ=4, то ОЕ=1 и ВО=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приведённого решения видно, что отношение ВО/ОЕ не зависит от отрезков ВЕ 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Найти это отношение можно также, используя лишь тот факт, что 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медиана треугольника АВС и АО=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причём без всяких вспомогательных построен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7"/>
              <p:cNvSpPr txBox="1"/>
              <p:nvPr/>
            </p:nvSpPr>
            <p:spPr>
              <a:xfrm>
                <a:off x="4575240" y="3645000"/>
                <a:ext cx="2514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Е</m:t>
                    </m:r>
                    <m:r>
                      <m:t xml:space="preserve">,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О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1"/>
              <p:cNvSpPr txBox="1"/>
              <p:nvPr/>
            </p:nvSpPr>
            <p:spPr>
              <a:xfrm>
                <a:off x="5178600" y="6237360"/>
                <a:ext cx="273672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35" name="Picture 14" descr="сканирование0001"/>
          <p:cNvPicPr/>
          <p:nvPr/>
        </p:nvPicPr>
        <p:blipFill>
          <a:blip r:embed="rId1"/>
          <a:stretch/>
        </p:blipFill>
        <p:spPr>
          <a:xfrm>
            <a:off x="324000" y="2349360"/>
            <a:ext cx="4103640" cy="284508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sp>
        <p:nvSpPr>
          <p:cNvPr id="1136" name="WordArt 4"/>
          <p:cNvSpPr txBox="1"/>
          <p:nvPr/>
        </p:nvSpPr>
        <p:spPr>
          <a:xfrm>
            <a:off x="262080" y="-44280"/>
            <a:ext cx="7616520" cy="15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7. По теореме о средней линии тре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/>
          </p:nvPr>
        </p:nvSpPr>
        <p:spPr>
          <a:xfrm>
            <a:off x="-203040" y="1500120"/>
            <a:ext cx="873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кущая ВЕ пересекает стороны треугольника А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точках Е и О. По теореме Менелая  из треугольника А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имее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 так как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менив теперь теорему Менелая к треугольнику ВСЕ и секущей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получи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о АЕ/АС=1/3 и 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=D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едовательно, ВО/ОЕ=3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6"/>
              <p:cNvSpPr txBox="1"/>
              <p:nvPr/>
            </p:nvSpPr>
            <p:spPr>
              <a:xfrm>
                <a:off x="179280" y="2117880"/>
                <a:ext cx="144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Object 8"/>
              <p:cNvSpPr txBox="1"/>
              <p:nvPr/>
            </p:nvSpPr>
            <p:spPr>
              <a:xfrm>
                <a:off x="179280" y="2879640"/>
                <a:ext cx="2286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В</m:t>
                    </m:r>
                    <m:r>
                      <m:rPr>
                        <m:lit/>
                        <m:nor/>
                      </m:rPr>
                      <m:t xml:space="preserve">В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Е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2" name="Object 10"/>
              <p:cNvSpPr txBox="1"/>
              <p:nvPr/>
            </p:nvSpPr>
            <p:spPr>
              <a:xfrm>
                <a:off x="189000" y="4175280"/>
                <a:ext cx="11430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ОЕ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Е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3" name="Picture 12" descr="сканирование0001"/>
          <p:cNvPicPr/>
          <p:nvPr/>
        </p:nvPicPr>
        <p:blipFill>
          <a:blip r:embed="rId1"/>
          <a:stretch/>
        </p:blipFill>
        <p:spPr>
          <a:xfrm>
            <a:off x="4165560" y="3605040"/>
            <a:ext cx="3421080" cy="237204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sp>
        <p:nvSpPr>
          <p:cNvPr id="1144" name="Rectangle 1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13"/>
              <p:cNvSpPr txBox="1"/>
              <p:nvPr/>
            </p:nvSpPr>
            <p:spPr>
              <a:xfrm>
                <a:off x="2627280" y="6162840"/>
                <a:ext cx="388944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6" name="WordArt 4"/>
          <p:cNvSpPr txBox="1"/>
          <p:nvPr/>
        </p:nvSpPr>
        <p:spPr>
          <a:xfrm>
            <a:off x="395280" y="-38160"/>
            <a:ext cx="713088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8. По теореме Мен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715680" y="18900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орема Менел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Равнобедренный треугольник 3"/>
          <p:cNvSpPr/>
          <p:nvPr/>
        </p:nvSpPr>
        <p:spPr>
          <a:xfrm>
            <a:off x="4403880" y="3772080"/>
            <a:ext cx="158400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Прямая соединительная линия 5"/>
          <p:cNvSpPr/>
          <p:nvPr/>
        </p:nvSpPr>
        <p:spPr>
          <a:xfrm>
            <a:off x="5987880" y="46864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Прямая соединительная линия 8"/>
          <p:cNvSpPr/>
          <p:nvPr/>
        </p:nvSpPr>
        <p:spPr>
          <a:xfrm>
            <a:off x="3827520" y="3927600"/>
            <a:ext cx="424800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Прямая соединительная линия 11"/>
          <p:cNvSpPr/>
          <p:nvPr/>
        </p:nvSpPr>
        <p:spPr>
          <a:xfrm>
            <a:off x="4403880" y="4686480"/>
            <a:ext cx="0" cy="0"/>
          </a:xfrm>
          <a:prstGeom prst="line">
            <a:avLst/>
          </a:prstGeom>
          <a:ln w="936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Прямая соединительная линия 13"/>
          <p:cNvSpPr/>
          <p:nvPr/>
        </p:nvSpPr>
        <p:spPr>
          <a:xfrm flipV="1">
            <a:off x="4403880" y="4070160"/>
            <a:ext cx="14256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Прямая соединительная линия 16"/>
          <p:cNvSpPr/>
          <p:nvPr/>
        </p:nvSpPr>
        <p:spPr>
          <a:xfrm flipH="1">
            <a:off x="5051160" y="3772080"/>
            <a:ext cx="144360" cy="40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Прямая соединительная линия 26"/>
          <p:cNvSpPr/>
          <p:nvPr/>
        </p:nvSpPr>
        <p:spPr>
          <a:xfrm flipV="1">
            <a:off x="5987880" y="4378320"/>
            <a:ext cx="7164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Прямая соединительная линия 31"/>
          <p:cNvSpPr/>
          <p:nvPr/>
        </p:nvSpPr>
        <p:spPr>
          <a:xfrm>
            <a:off x="4546440" y="4143240"/>
            <a:ext cx="0" cy="0"/>
          </a:xfrm>
          <a:prstGeom prst="line">
            <a:avLst/>
          </a:prstGeom>
          <a:ln w="936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6" name="Объект 43" descr=""/>
          <p:cNvPicPr/>
          <p:nvPr/>
        </p:nvPicPr>
        <p:blipFill>
          <a:blip r:embed="rId1"/>
          <a:stretch/>
        </p:blipFill>
        <p:spPr>
          <a:xfrm>
            <a:off x="201600" y="1030320"/>
            <a:ext cx="7894800" cy="2895480"/>
          </a:xfrm>
          <a:prstGeom prst="rect">
            <a:avLst/>
          </a:prstGeom>
          <a:ln w="0">
            <a:noFill/>
          </a:ln>
        </p:spPr>
      </p:pic>
      <p:sp>
        <p:nvSpPr>
          <p:cNvPr id="1157" name="TextBox 44"/>
          <p:cNvSpPr/>
          <p:nvPr/>
        </p:nvSpPr>
        <p:spPr>
          <a:xfrm>
            <a:off x="5030640" y="3413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TextBox 45"/>
          <p:cNvSpPr/>
          <p:nvPr/>
        </p:nvSpPr>
        <p:spPr>
          <a:xfrm>
            <a:off x="4128120" y="46134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Box 46"/>
          <p:cNvSpPr/>
          <p:nvPr/>
        </p:nvSpPr>
        <p:spPr>
          <a:xfrm>
            <a:off x="4300200" y="37418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Box 47"/>
          <p:cNvSpPr/>
          <p:nvPr/>
        </p:nvSpPr>
        <p:spPr>
          <a:xfrm>
            <a:off x="5896800" y="4613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TextBox 48"/>
          <p:cNvSpPr/>
          <p:nvPr/>
        </p:nvSpPr>
        <p:spPr>
          <a:xfrm>
            <a:off x="5999760" y="40752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TextBox 49"/>
          <p:cNvSpPr/>
          <p:nvPr/>
        </p:nvSpPr>
        <p:spPr>
          <a:xfrm>
            <a:off x="4835520" y="4143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TextBox 50"/>
          <p:cNvSpPr/>
          <p:nvPr/>
        </p:nvSpPr>
        <p:spPr>
          <a:xfrm>
            <a:off x="5599800" y="39751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TextBox 51"/>
          <p:cNvSpPr/>
          <p:nvPr/>
        </p:nvSpPr>
        <p:spPr>
          <a:xfrm>
            <a:off x="4640040" y="37735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Box 52"/>
          <p:cNvSpPr/>
          <p:nvPr/>
        </p:nvSpPr>
        <p:spPr>
          <a:xfrm>
            <a:off x="7391520" y="437832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Заголовок 1"/>
          <p:cNvSpPr/>
          <p:nvPr/>
        </p:nvSpPr>
        <p:spPr>
          <a:xfrm>
            <a:off x="868320" y="341280"/>
            <a:ext cx="6870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WordArt 6"/>
          <p:cNvSpPr txBox="1"/>
          <p:nvPr/>
        </p:nvSpPr>
        <p:spPr>
          <a:xfrm>
            <a:off x="1817640" y="235080"/>
            <a:ext cx="550872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ывод: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8" name="Text Box 8"/>
          <p:cNvSpPr/>
          <p:nvPr/>
        </p:nvSpPr>
        <p:spPr>
          <a:xfrm>
            <a:off x="611280" y="184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ходе работы мы рассмотрели пять методов решения конкретной задач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Rectangle 9"/>
          <p:cNvSpPr/>
          <p:nvPr/>
        </p:nvSpPr>
        <p:spPr>
          <a:xfrm>
            <a:off x="2916360" y="2139840"/>
            <a:ext cx="280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ординатны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екторный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ригонометр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ометр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Text Box 10"/>
          <p:cNvSpPr/>
          <p:nvPr/>
        </p:nvSpPr>
        <p:spPr>
          <a:xfrm>
            <a:off x="539640" y="3500280"/>
            <a:ext cx="777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правило, основными методами решения планиметрических задач на вычисления являются алгебраические и тригонометрические методы. Но как видно из работы, геометрические методы оказались проще и изящнее, хотя к ним можно прийти только догадавшись провести некоторые вспомогательные линии. Таким образом, важно владеть геометрическими приёмами, которые позволяют найти наиболее простое и красивое решение с помощью дополнительных построени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666699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WordArt 4"/>
          <p:cNvSpPr txBox="1"/>
          <p:nvPr/>
        </p:nvSpPr>
        <p:spPr>
          <a:xfrm rot="21312000">
            <a:off x="395280" y="26028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едение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3865680" y="1251000"/>
            <a:ext cx="4593960" cy="1871640"/>
          </a:xfrm>
          <a:prstGeom prst="rect">
            <a:avLst/>
          </a:prstGeom>
          <a:solidFill>
            <a:srgbClr val="ff9900">
              <a:alpha val="8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Для успешного изучения геометр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необходимо знат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не только основные формулы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теоремы, но и владеть различным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методами решения задач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468360" y="342864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ять основных методов, применяемых в решении задач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9"/>
          <p:cNvSpPr/>
          <p:nvPr/>
        </p:nvSpPr>
        <p:spPr>
          <a:xfrm>
            <a:off x="4356000" y="4005360"/>
            <a:ext cx="4392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ординат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кторны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игонометр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ометр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AutoShape 23"/>
          <p:cNvSpPr/>
          <p:nvPr/>
        </p:nvSpPr>
        <p:spPr>
          <a:xfrm rot="20675400">
            <a:off x="934920" y="4186080"/>
            <a:ext cx="2592360" cy="2087640"/>
          </a:xfrm>
          <a:custGeom>
            <a:avLst/>
            <a:gdLst>
              <a:gd name="textAreaLeft" fmla="*/ 591840 w 2592360"/>
              <a:gd name="textAreaRight" fmla="*/ 2000520 w 259236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WordArt 4"/>
          <p:cNvSpPr txBox="1"/>
          <p:nvPr/>
        </p:nvSpPr>
        <p:spPr>
          <a:xfrm>
            <a:off x="2484360" y="404640"/>
            <a:ext cx="4175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Гипотез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041" name="Picture 6" descr="baby18"/>
          <p:cNvPicPr/>
          <p:nvPr/>
        </p:nvPicPr>
        <p:blipFill>
          <a:blip r:embed="rId1"/>
          <a:stretch/>
        </p:blipFill>
        <p:spPr>
          <a:xfrm>
            <a:off x="154080" y="4503600"/>
            <a:ext cx="1535040" cy="2232000"/>
          </a:xfrm>
          <a:prstGeom prst="rect">
            <a:avLst/>
          </a:prstGeom>
          <a:ln w="0">
            <a:noFill/>
          </a:ln>
        </p:spPr>
      </p:pic>
      <p:sp>
        <p:nvSpPr>
          <p:cNvPr id="1042" name="WordArt 10"/>
          <p:cNvSpPr txBox="1"/>
          <p:nvPr/>
        </p:nvSpPr>
        <p:spPr>
          <a:xfrm>
            <a:off x="8244000" y="4827600"/>
            <a:ext cx="574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3" name="WordArt 11"/>
          <p:cNvSpPr txBox="1"/>
          <p:nvPr/>
        </p:nvSpPr>
        <p:spPr>
          <a:xfrm>
            <a:off x="7596360" y="5516640"/>
            <a:ext cx="50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4" name="WordArt 12"/>
          <p:cNvSpPr txBox="1"/>
          <p:nvPr/>
        </p:nvSpPr>
        <p:spPr>
          <a:xfrm>
            <a:off x="7140600" y="6159600"/>
            <a:ext cx="35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5" name="TextBox 1"/>
          <p:cNvSpPr/>
          <p:nvPr/>
        </p:nvSpPr>
        <p:spPr>
          <a:xfrm>
            <a:off x="1195560" y="1773360"/>
            <a:ext cx="7341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abriola"/>
                <a:ea typeface="Cambria Math"/>
              </a:rPr>
              <a:t>Возможно ли решить конкретную задачу всеми указанными способами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0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10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WordArt 4"/>
          <p:cNvSpPr txBox="1"/>
          <p:nvPr/>
        </p:nvSpPr>
        <p:spPr>
          <a:xfrm>
            <a:off x="250920" y="1817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Цель работы: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477360" y="3692520"/>
            <a:ext cx="769644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чи работ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робовать разные методы на одной задач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явить  отличительные черты, сильные и слабые стороны разных метод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8" name="Picture 10" descr="Рисунок92"/>
          <p:cNvPicPr/>
          <p:nvPr/>
        </p:nvPicPr>
        <p:blipFill>
          <a:blip r:embed="rId1"/>
          <a:stretch/>
        </p:blipFill>
        <p:spPr>
          <a:xfrm>
            <a:off x="7308720" y="5129280"/>
            <a:ext cx="1498680" cy="1655640"/>
          </a:xfrm>
          <a:prstGeom prst="rect">
            <a:avLst/>
          </a:prstGeom>
          <a:ln w="0">
            <a:noFill/>
          </a:ln>
        </p:spPr>
      </p:pic>
      <p:sp>
        <p:nvSpPr>
          <p:cNvPr id="1049" name="WordArt 9"/>
          <p:cNvSpPr txBox="1"/>
          <p:nvPr/>
        </p:nvSpPr>
        <p:spPr>
          <a:xfrm>
            <a:off x="3186000" y="1460520"/>
            <a:ext cx="499608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учиться распознаванию и использованию 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ческих методов при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мотрении различных решении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й и той же задачи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0" name="WordArt 4"/>
          <p:cNvSpPr txBox="1"/>
          <p:nvPr/>
        </p:nvSpPr>
        <p:spPr>
          <a:xfrm>
            <a:off x="1584360" y="-55440"/>
            <a:ext cx="4995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Цели и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31640" y="777960"/>
            <a:ext cx="8280720" cy="19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треугольнике АВС биссектриса ВЕ и медиан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пендикулярны  и имеют одинаковую длину, равную 4. Найти стороны треугольника А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6"/>
          <p:cNvSpPr/>
          <p:nvPr/>
        </p:nvSpPr>
        <p:spPr>
          <a:xfrm>
            <a:off x="4500720" y="3544920"/>
            <a:ext cx="4572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упая к решению задачи, сразу замечаем, что если О – точка пересечения биссектрисы ВЕ и медиа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прямоугольные треугольн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равны. Поэтому АО=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и АВ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 что ВС=2А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3" name="Picture 8" descr="с"/>
          <p:cNvPicPr/>
          <p:nvPr/>
        </p:nvPicPr>
        <p:blipFill>
          <a:blip r:embed="rId2"/>
          <a:stretch/>
        </p:blipFill>
        <p:spPr>
          <a:xfrm>
            <a:off x="252360" y="3141720"/>
            <a:ext cx="4448160" cy="324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ver dir="l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2411280" y="1425240"/>
            <a:ext cx="63374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мем точку О за начало прямоугольной системы координат, оси Ох придадим направление вектор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D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будем считать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диницей масштаб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данной системе точк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, D, B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меют координат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(-2;0)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2;0) и В (0;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Object 14"/>
              <p:cNvSpPr txBox="1"/>
              <p:nvPr/>
            </p:nvSpPr>
            <p:spPr>
              <a:xfrm>
                <a:off x="5111640" y="1971720"/>
                <a:ext cx="524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acc>
                      </m:e>
                    </m:d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Rectangle 16"/>
          <p:cNvSpPr/>
          <p:nvPr/>
        </p:nvSpPr>
        <p:spPr>
          <a:xfrm>
            <a:off x="108000" y="3284640"/>
            <a:ext cx="8343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того чтобы определить длины сторон треугольника АВС, надо найт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ыразим через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координаты точек С и Е. Так как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–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редина отрезка ВС, то С (4;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. Для точки Е имеем координаты (0;у). Вторую координату точки Е найдем, пользуясь, тем что точка Е принадлежит прямой АС. Уравнение прямой АС имеет вид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ординаты точки Е (0;у) удовлетворяют этому уравнению. Подставив в него 0 вместо х, получим:           Следовательно,           По условию задачи ВЕ=4, значит,        , ил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=3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так, А (-2;0), В (0;3), С (4;-3). Зная координаты вершин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реугольника АВС, найдем его стороны: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Object 18"/>
              <p:cNvSpPr txBox="1"/>
              <p:nvPr/>
            </p:nvSpPr>
            <p:spPr>
              <a:xfrm>
                <a:off x="4280040" y="4275000"/>
                <a:ext cx="690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2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20"/>
              <p:cNvSpPr txBox="1"/>
              <p:nvPr/>
            </p:nvSpPr>
            <p:spPr>
              <a:xfrm>
                <a:off x="2763720" y="4811760"/>
                <a:ext cx="581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4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22"/>
              <p:cNvSpPr txBox="1"/>
              <p:nvPr/>
            </p:nvSpPr>
            <p:spPr>
              <a:xfrm>
                <a:off x="5025960" y="4819680"/>
                <a:ext cx="609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6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Object 24"/>
              <p:cNvSpPr txBox="1"/>
              <p:nvPr/>
            </p:nvSpPr>
            <p:spPr>
              <a:xfrm>
                <a:off x="1231920" y="5067360"/>
                <a:ext cx="485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8" name="Rectangle 27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Object 26"/>
              <p:cNvSpPr txBox="1"/>
              <p:nvPr/>
            </p:nvSpPr>
            <p:spPr>
              <a:xfrm>
                <a:off x="5181480" y="5950080"/>
                <a:ext cx="27162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070" name="Picture 28" descr="с"/>
          <p:cNvPicPr/>
          <p:nvPr/>
        </p:nvPicPr>
        <p:blipFill>
          <a:blip r:embed="rId1"/>
          <a:stretch/>
        </p:blipFill>
        <p:spPr>
          <a:xfrm>
            <a:off x="250920" y="1400040"/>
            <a:ext cx="2449440" cy="178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71" name="WordArt 4"/>
          <p:cNvSpPr txBox="1"/>
          <p:nvPr/>
        </p:nvSpPr>
        <p:spPr>
          <a:xfrm>
            <a:off x="2073240" y="44280"/>
            <a:ext cx="49975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1. Координат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место уравнения прямой в отрез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висимость между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лучим из подобия треугольников АОЕ 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FC  AO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E=AF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fld id="{333E43AB-1CB4-4036-839D-EA645E903A3D}" type="slidenum">
              <a:rPr b="0" lang="ru-RU" sz="3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=6(-b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Значи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(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3.Далее как в презент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610920" y="1844640"/>
            <a:ext cx="7623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екторы ВЕ и АД выразим через а и с.Так как ВС=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то СЕ=2АЕ( по свойству биссектрисы треугольника). Пользуясь формулой деления отрезка в данном отношении, получим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гласно вычитанию векторов, имее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ины векторов ВЕ и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вестны. Пуст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числив  скалярные квадраты вектором ВЕ и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им уравн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йдем теперь через сторону АС, пользуясь векторной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улировкой теоремы косинусов: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ставим найденные выше значения и получим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12"/>
              <p:cNvSpPr txBox="1"/>
              <p:nvPr/>
            </p:nvSpPr>
            <p:spPr>
              <a:xfrm>
                <a:off x="1476360" y="1341360"/>
                <a:ext cx="15843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  <m:r>
                          <m:t xml:space="preserve">,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77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14"/>
              <p:cNvSpPr txBox="1"/>
              <p:nvPr/>
            </p:nvSpPr>
            <p:spPr>
              <a:xfrm>
                <a:off x="5003640" y="2290680"/>
                <a:ext cx="1079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Е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9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Object 16"/>
              <p:cNvSpPr txBox="1"/>
              <p:nvPr/>
            </p:nvSpPr>
            <p:spPr>
              <a:xfrm>
                <a:off x="4967280" y="2573280"/>
                <a:ext cx="11523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D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1" name="Rectangle 1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Object 18"/>
              <p:cNvSpPr txBox="1"/>
              <p:nvPr/>
            </p:nvSpPr>
            <p:spPr>
              <a:xfrm>
                <a:off x="5276880" y="3227400"/>
                <a:ext cx="1512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3" name="Rectangle 2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Object 20"/>
              <p:cNvSpPr txBox="1"/>
              <p:nvPr/>
            </p:nvSpPr>
            <p:spPr>
              <a:xfrm>
                <a:off x="5105520" y="3797280"/>
                <a:ext cx="13665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Rectangle 25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6" name="Object 24"/>
              <p:cNvSpPr txBox="1"/>
              <p:nvPr/>
            </p:nvSpPr>
            <p:spPr>
              <a:xfrm>
                <a:off x="5118120" y="4491000"/>
                <a:ext cx="2736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,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7" name="Rectangle 2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Object 26"/>
              <p:cNvSpPr txBox="1"/>
              <p:nvPr/>
            </p:nvSpPr>
            <p:spPr>
              <a:xfrm>
                <a:off x="5580000" y="5605560"/>
                <a:ext cx="1209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9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Object 28"/>
              <p:cNvSpPr txBox="1"/>
              <p:nvPr/>
            </p:nvSpPr>
            <p:spPr>
              <a:xfrm>
                <a:off x="6621480" y="5894280"/>
                <a:ext cx="68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091" name="Picture 30" descr="Копия с"/>
          <p:cNvPicPr/>
          <p:nvPr/>
        </p:nvPicPr>
        <p:blipFill>
          <a:blip r:embed="rId1"/>
          <a:stretch/>
        </p:blipFill>
        <p:spPr>
          <a:xfrm>
            <a:off x="1116000" y="3860640"/>
            <a:ext cx="1944720" cy="141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92" name="WordArt 4"/>
          <p:cNvSpPr txBox="1"/>
          <p:nvPr/>
        </p:nvSpPr>
        <p:spPr>
          <a:xfrm>
            <a:off x="1187280" y="-144360"/>
            <a:ext cx="612648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2. Векто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Е получено по лемме на стр. 134 А.Г.Мерзляк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класс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4" name="Объект 2" descr=""/>
          <p:cNvPicPr/>
          <p:nvPr/>
        </p:nvPicPr>
        <p:blipFill>
          <a:blip r:embed="rId1"/>
          <a:stretch/>
        </p:blipFill>
        <p:spPr>
          <a:xfrm>
            <a:off x="487440" y="1908000"/>
            <a:ext cx="7894440" cy="3822840"/>
          </a:xfrm>
          <a:prstGeom prst="rect">
            <a:avLst/>
          </a:prstGeom>
          <a:ln w="0">
            <a:noFill/>
          </a:ln>
        </p:spPr>
      </p:pic>
      <p:cxnSp>
        <p:nvCxnSpPr>
          <p:cNvPr id="1095" name="Прямая со стрелкой 4"/>
          <p:cNvCxnSpPr/>
          <p:nvPr/>
        </p:nvCxnSpPr>
        <p:spPr>
          <a:xfrm>
            <a:off x="2339640" y="39985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6" name="Прямая со стрелкой 6"/>
          <p:cNvCxnSpPr/>
          <p:nvPr/>
        </p:nvCxnSpPr>
        <p:spPr>
          <a:xfrm>
            <a:off x="3850920" y="399528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7" name="Прямая со стрелкой 7"/>
          <p:cNvCxnSpPr/>
          <p:nvPr/>
        </p:nvCxnSpPr>
        <p:spPr>
          <a:xfrm>
            <a:off x="782640" y="400500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8" name="Прямая со стрелкой 9"/>
          <p:cNvCxnSpPr/>
          <p:nvPr/>
        </p:nvCxnSpPr>
        <p:spPr>
          <a:xfrm flipH="1" flipV="1">
            <a:off x="6084000" y="4328280"/>
            <a:ext cx="72360" cy="86436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099" name="Прямая со стрелкой 12"/>
          <p:cNvCxnSpPr/>
          <p:nvPr/>
        </p:nvCxnSpPr>
        <p:spPr>
          <a:xfrm>
            <a:off x="6156000" y="5192640"/>
            <a:ext cx="1872360" cy="2167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100" name="Прямая соединительная линия 15"/>
          <p:cNvSpPr/>
          <p:nvPr/>
        </p:nvSpPr>
        <p:spPr>
          <a:xfrm>
            <a:off x="6084720" y="4329000"/>
            <a:ext cx="1943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1" name="Прямая со стрелкой 18"/>
          <p:cNvCxnSpPr/>
          <p:nvPr/>
        </p:nvCxnSpPr>
        <p:spPr>
          <a:xfrm flipV="1">
            <a:off x="6156360" y="4760280"/>
            <a:ext cx="720000" cy="43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02" name="TextBox 20"/>
          <p:cNvSpPr/>
          <p:nvPr/>
        </p:nvSpPr>
        <p:spPr>
          <a:xfrm>
            <a:off x="5757120" y="40370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TextBox 21"/>
          <p:cNvSpPr/>
          <p:nvPr/>
        </p:nvSpPr>
        <p:spPr>
          <a:xfrm>
            <a:off x="5926680" y="5194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TextBox 22"/>
          <p:cNvSpPr/>
          <p:nvPr/>
        </p:nvSpPr>
        <p:spPr>
          <a:xfrm>
            <a:off x="6804360" y="4459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Box 23"/>
          <p:cNvSpPr/>
          <p:nvPr/>
        </p:nvSpPr>
        <p:spPr>
          <a:xfrm>
            <a:off x="7997760" y="53085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2:22:38Z</dcterms:created>
  <dc:creator>андр</dc:creator>
  <dc:description/>
  <dc:language>en-US</dc:language>
  <cp:lastModifiedBy>Owner</cp:lastModifiedBy>
  <cp:lastPrinted>2022-10-17T22:29:42Z</cp:lastPrinted>
  <dcterms:modified xsi:type="dcterms:W3CDTF">2022-11-15T03:33:40Z</dcterms:modified>
  <cp:revision>69</cp:revision>
  <dc:subject/>
  <dc:title>Слайд 1</dc:title>
</cp:coreProperties>
</file>