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2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24.jpeg" ContentType="image/jpeg"/>
  <Override PartName="/ppt/media/image15.png" ContentType="image/png"/>
  <Override PartName="/ppt/media/image3.png" ContentType="image/png"/>
  <Override PartName="/ppt/media/image17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6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9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E59777-51AD-4537-87BC-68B011B6DA5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132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66F21-68B0-4F75-8486-7FDD79351C0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132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E63E9795-5FC1-4AD3-96BF-B4CDD06141B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132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DD39DB-F048-463A-9913-C60C6A7FD92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1C2777-51BF-445F-A16C-7A8E152D933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D92FBA3-79D4-4732-8C29-4A50C1EDD38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132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9B388-FE79-449E-8F32-8836D0E6CCC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132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F2EC7607-8669-4BE3-A177-D75BF262EAF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6BD6C-C478-48ED-B54E-AEAF8BF5399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29595-927A-4F57-83AF-7A474DEF999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76B1FCA-56C8-4766-836D-05D979E238D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132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373D19-8CC8-4EE2-8DBA-8DC6BCCDFAA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132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C692F1AE-8F73-4F2F-B86E-0013F40A002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132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B1EA61-9409-44B4-8095-85076FAAB2C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132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909C8E3D-5805-4792-966F-E7EB9412166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132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CC4C14-A88C-48F3-BAEA-A0F0EA2840A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132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53FE17F0-3C18-44B0-BF92-A2CCFAA071F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132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D79283-0CB1-41B5-A3D3-52B084C09E0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132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FF273EE2-5FB6-4249-BDFC-C36D6C9D6F2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132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E7886B-D7F9-4D28-B97D-C87A69DDEA5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132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4AA6F263-16B8-4C09-B95F-9A78591A910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132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59EDA3-9BD8-4625-8178-3C426B880FA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132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18728C-E0DA-45CC-BEF2-C158120F46D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132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EA156E-5188-4413-8408-0E2D8BE026F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132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D68E7D-49A8-44BC-85AD-E3F9D4F67AC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B7982-B192-4AF9-9504-E0B12E705D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73A95-6C8F-412D-BCE5-7314659451B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224D3-7300-410A-9B7D-6EC9A2AC77A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45E93-B1AF-4B79-8D8B-2EDF59A1D07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312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E662D-B574-4758-8151-8F9FBDA9624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9A25D-4759-41C7-8D49-1B057CCCF4E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10F98-94BE-49AA-80BA-7A891907393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D393E-B079-4B54-B321-5E6DF0C9175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0A818-B2C3-4A51-9826-018E6403632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C04CE-DD76-48F7-A6D8-FBE73F44F47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870AE-CB37-4A86-817B-9A089800CDE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A991A1-3BBE-4EBB-96DA-B407EC9D8C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8FDB8-38F7-4967-9B73-742191312ED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AD69E8-F82C-4949-BF99-1397D9441BE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E9AF30-3789-4323-9678-09C28EC6A0A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AD83DE-46CA-47F4-9685-EA1842076DA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D62470-4F9E-4194-A47F-4B7AA7A4425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312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BA9BAD-3262-48A4-9EEC-A05551FE462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2288AD-2402-490B-98EF-9E7BF149F0B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FCE351-451E-4C14-8BCB-0A3124B4E5E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DD739D-05A2-44CD-AAA1-DDEDACEA8FC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56461E-9E3A-4003-9A4F-F8092FB4BF1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178AC7-988C-4ABF-B266-2B350B69DB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D93B5-75F0-4438-8C37-F0F4C9CD3A5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AAEFE5-80A6-41A2-A5AF-11084460A9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134CE-7417-48FA-A1F0-7F5780DBCD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4B276-86CC-4FF5-BC0E-822212563D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94E27-8239-40C9-96DC-7E60025508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0B4D7-2DE3-44E7-AE83-02AE8E175A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F76D2-858D-4521-B230-5937A55D6F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312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23FCF-0719-4E6B-AF40-A7ED949266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8724C-B10D-4C69-9B2A-1E2E057FF1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F522D-97D1-4993-A65A-E323F3E5A0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FE6BF-11D9-4923-98AF-214281CDA3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D2D1A-08FE-4719-9CB3-D711F99413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4BB18-FBD9-42BF-8A9F-47F9560539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D2118-E6E8-4C6F-98CE-4475C82C98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5C991-C17E-4E71-963E-BAD50348E93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81F9-F5FD-493D-8077-9F6D60B2F57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5CA0-52AD-42F5-AFAB-07B0D42AC84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08F4-691C-4AA4-A803-A6A1DC52AA0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5549-8E77-4AB2-BA19-A077390938E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8297-6892-4F85-A775-37019E8D10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98C35-9C6A-4E9C-ACB2-AD6BEAE0C06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312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6DE7-507E-496D-99CA-A34286B94E6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8989-B8D4-4224-AC77-B738EE5E577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AE37-33EA-4842-B7E9-BE4358F1020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6B57-037D-4AF6-B980-D1867616F40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69AC-FDBF-41C3-A941-8070D4D69F7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47DF-173B-44D5-845E-739C7F77E6F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E33C-6758-45DA-BA98-5A6209D3E32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72EBB5-F66D-41C8-B69F-9AE5DDCA3BA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C6325-3F00-47E2-A8D6-DB2F9BEF6BF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A27CB-7730-423C-B71A-6612401DE8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C99C6-BBFC-49E8-AD90-5BCAD5ED443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5C4C18-D6DF-43F1-A438-B750E338A47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456DFE-A89D-437A-81B1-82069900E45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312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671E68-C5BE-4631-9BFA-9B21EA3083E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C01838-54C0-4C4B-AAAE-2215799E2A3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818CC6-F354-46D7-9313-478CB50FD28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4DD0AD-8429-4DCB-9A6A-F7DFE849195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57B4A5-376B-4DF4-A0B9-CA55E60C321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96DF57-934A-4A20-9967-D2A77B626A9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62317B-ABB9-4719-B767-BBFF7DBC86E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2531A-627C-4125-BFF7-C079F945FD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FD39E-EF7B-4FF2-ACDF-4A3EC46D133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48B0A-3D45-47D2-875B-65BC7FD36F3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9D9619-AE25-4A7B-A1AA-CB9EBBF53C1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B4E37-AE90-42DF-A2B0-CFDCBEFBB44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0F08F-FBF3-429A-AE60-F9D9C89208B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312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B1FAE2-0C0B-44E1-B5F6-BDA4FE67566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BDF82-1072-4BA3-83A1-8B534D5B4E2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F1A88-7B4A-4770-AC82-217090502E2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68DA92-CBB9-4050-B73A-751E21DC9A7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AFD00-007E-4EAE-B45F-86B8F19AB85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38DB7-1E02-4380-8232-C6CFD1E2FD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312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1B5D4-AD31-4E90-9537-04726D02587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9CA80C-9D60-40AF-AF4A-D1FAE71865C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8435-CEA3-41CE-82CB-A8B16A82365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1DB05-74FF-473B-BF5D-CA65FCE574B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0120-7BE9-4B53-B39B-6C4D11C24DF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EB04-9FA0-40BB-ADD7-46434F8B6C3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199C-A9AA-4694-A54A-70A4A1D9272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312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A26A-E0AA-4E80-AB76-19F35E39263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16DE3-5CC7-495F-BCBC-941ADD80F9C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3D96-C7B2-422A-80DB-4C2A003A463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CE9D-F36A-4A1F-ACF5-CE30EBF3C4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21FA1-303C-44EE-9FF0-30C8612C580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61EC-B481-4CA0-AEEB-54AD82B7597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FDD02-4FB1-4A4B-A2D2-6C876651B73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41C7-8363-4BED-9241-6513DC8DE12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5AC99D-899D-4FF5-8860-E5C28E7EB60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E14CC2-6AA2-453C-A6AA-3FFB677178F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BA0E64-2692-4C8C-BD03-8BA69D6BFEF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9D87EE-0536-4C24-B543-13478A41AFB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3E11CE-195E-4A60-BCBA-09AB7C160B4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312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A035C7-E119-43BE-A942-32E2BF3AA92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B0F80E-D2B8-4623-85F7-A0659147A8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CF424-D0FA-4A1D-9D81-657AEB7D5E5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1EA500-9864-4BC6-8217-AEC71B6B5C7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585E9D-DE05-44D5-8E8A-660E166DBAC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4490F1-2628-48FA-BD52-6E49261A930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F90CBC-8940-4FF6-A1DF-72E30D9EF4E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5F84A1-0A64-4461-91FE-AD4BCD79669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7D9F2B-5C9C-4999-BE1D-27083A4DACF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1E6FEA-7B63-4B5C-9BEE-781D0350E5C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60D9D0-363F-4085-B4BA-4384C6C534E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0BB002-916D-4290-8EE9-1B3ADF8F4FD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B08946-E480-4FD4-8EE9-29CA2D2503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37DF1-C10E-4DD5-AFBF-3511128B77E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312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C7B47A-414D-4463-BD76-498C9DE9C48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55BC46-4B73-45CC-9CCA-4135D08FD45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355DD4-5EA1-4220-ABCF-970AD385DB2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AEAEAB-562A-427A-B06F-AE920F0C8BA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0FDF19-FA77-4D8B-8F14-F1208BF8C84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F3BF5C-6EB8-4368-BE7E-0D092D47131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4AB395-FBBA-4E79-B4CD-354EF18DEED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1FCE1-7210-42C8-8F07-9F60A04F6F4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C7018-13DF-41C0-8E2B-87BFE2101F4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234C0-DD4A-41BE-8A93-91E0C245E3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57FEA8-725F-42A7-8449-7AF10F4C2B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9C98010-69E9-4A8C-B93D-0C540A6A5722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0CD3930-A0A3-40FC-B17F-5742F2480448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57EF62E-7A13-4D56-A3FB-6AECFEB1D526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3C7B650-C132-4C44-90E6-38BDED637FA3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A5C205A-CEE0-4DA1-A4BD-6198D879D31C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65AACAA-C14E-4C28-8241-E6D33F2DA65C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123F9DA-35B7-463D-8767-2D4DFA76A504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FEEECAD-CF2D-4F01-B0CC-CED31CC0A6ED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957061C-C598-4035-9162-082CB7A13C61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0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1"/>
          <p:cNvSpPr/>
          <p:nvPr/>
        </p:nvSpPr>
        <p:spPr>
          <a:xfrm>
            <a:off x="684360" y="620640"/>
            <a:ext cx="763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Book Antiqua"/>
              </a:rPr>
              <a:t>Д</a:t>
            </a:r>
            <a:r>
              <a:rPr b="1" lang="ru-RU" sz="3200" spc="-1" strike="noStrike">
                <a:solidFill>
                  <a:srgbClr val="17375e"/>
                </a:solidFill>
                <a:latin typeface="Book Antiqua"/>
              </a:rPr>
              <a:t>еятельность школы по организации работы с одаренными и талантливыми детьми в контексте реализации ФГОС общего образ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Picture 2" descr=""/>
          <p:cNvPicPr/>
          <p:nvPr/>
        </p:nvPicPr>
        <p:blipFill>
          <a:blip r:embed="rId2"/>
          <a:stretch/>
        </p:blipFill>
        <p:spPr>
          <a:xfrm>
            <a:off x="108000" y="3240000"/>
            <a:ext cx="4427640" cy="335772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3"/>
          <p:cNvSpPr/>
          <p:nvPr/>
        </p:nvSpPr>
        <p:spPr>
          <a:xfrm rot="21540000">
            <a:off x="4754520" y="3836880"/>
            <a:ext cx="41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диный методический д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4"/>
          <p:cNvSpPr/>
          <p:nvPr/>
        </p:nvSpPr>
        <p:spPr>
          <a:xfrm>
            <a:off x="5570640" y="5248440"/>
            <a:ext cx="25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08 декабря 2018 г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Виды одарённости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наруживает себя в конкретных видах деятельности и может быть определена лишь в отношении отдельных областей деятельности (музыка, живопись, спорт и др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Скругленный прямоугольник 2"/>
          <p:cNvSpPr/>
          <p:nvPr/>
        </p:nvSpPr>
        <p:spPr>
          <a:xfrm>
            <a:off x="611280" y="1557360"/>
            <a:ext cx="7993080" cy="647640"/>
          </a:xfrm>
          <a:prstGeom prst="roundRect">
            <a:avLst>
              <a:gd name="adj" fmla="val 16667"/>
            </a:avLst>
          </a:prstGeom>
          <a:solidFill>
            <a:srgbClr val="e864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Специальная одарённость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Скругленный прямоугольник 3"/>
          <p:cNvSpPr/>
          <p:nvPr/>
        </p:nvSpPr>
        <p:spPr>
          <a:xfrm>
            <a:off x="539640" y="3789360"/>
            <a:ext cx="8064720" cy="431640"/>
          </a:xfrm>
          <a:prstGeom prst="roundRect">
            <a:avLst>
              <a:gd name="adj" fmla="val 16667"/>
            </a:avLst>
          </a:prstGeom>
          <a:solidFill>
            <a:srgbClr val="e864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Креативность (или творческость)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Прямоугольник 4"/>
          <p:cNvSpPr/>
          <p:nvPr/>
        </p:nvSpPr>
        <p:spPr>
          <a:xfrm>
            <a:off x="539640" y="432756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дна из важнейших характеристик одаренности, способность создавать нечто новое, оригиналь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1"/>
          <p:cNvSpPr/>
          <p:nvPr/>
        </p:nvSpPr>
        <p:spPr>
          <a:xfrm>
            <a:off x="73080" y="360360"/>
            <a:ext cx="914400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900"/>
            </a:b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Виды одарённости по критерию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«форма проявления»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295200" y="-171360"/>
            <a:ext cx="8697960" cy="6780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4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475" name="Объект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50752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4"/>
          <p:cNvSpPr/>
          <p:nvPr/>
        </p:nvSpPr>
        <p:spPr>
          <a:xfrm>
            <a:off x="324000" y="1305000"/>
            <a:ext cx="8640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азличные варианты метода наблюдения за детьми (в лабораторных условиях, в школе, во внешкольной деятельности и т. п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пециальные психодиагностические тренинг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экспертное оценивание поведения детей учителями, родителями, воспитателям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оведение “пробных” уроков по специальным программам, а также включение детей в специальные игровые и предметно-ориентированные занят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экспертное оценивание конкретных продуктов творческой деятельности детей (рисунков, стихов, технических моделей) профессионалам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рганизация различных интеллектуальных и предметных олимпиад, конференций, спортивных соревнований, творческих конкурсов, фестивалей, смотров и т. п.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оведение психодиагностического исследования с использованием различных психометрических методик в зависимости от задачи анализа конкретного случая одарен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761240" cy="703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Calibri"/>
              </a:rPr>
              <a:t>Методы выявления одаренных детей: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518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Критерии выявления одаренност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активность, динамичность интеллектуальной деятель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наличие конкретных знаний и умений в определенных предметных областях и общеучебных умений и навык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истематическое самообразова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реативность (умение применять стереотипные алгоритмы в новых обстоятельствах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темпераментные особен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активность и саморегуляция в деятельности (высокая мотивация и самостоятельность в деятельности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2" descr="http://900igr.net/datas/pedagogika/Odarjonnost/0028-028-Problemy-odarennykh-detej.jpg"/>
          <p:cNvPicPr/>
          <p:nvPr/>
        </p:nvPicPr>
        <p:blipFill>
          <a:blip r:embed="rId1"/>
          <a:stretch/>
        </p:blipFill>
        <p:spPr>
          <a:xfrm>
            <a:off x="9360" y="-33480"/>
            <a:ext cx="9144000" cy="54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1"/>
          <p:cNvSpPr/>
          <p:nvPr/>
        </p:nvSpPr>
        <p:spPr>
          <a:xfrm>
            <a:off x="285840" y="500040"/>
            <a:ext cx="86439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11488b"/>
                </a:solidFill>
                <a:latin typeface="Trebuchet MS"/>
              </a:rPr>
              <a:t> </a:t>
            </a:r>
            <a:r>
              <a:rPr b="1" lang="ru-RU" sz="25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1" lang="ru-RU" sz="2500" spc="-1" strike="noStrike">
                <a:solidFill>
                  <a:srgbClr val="c00000"/>
                </a:solidFill>
                <a:latin typeface="Trebuchet MS"/>
              </a:rPr>
              <a:t>Качества, чаще всего характеризующие одарённых детей</a:t>
            </a:r>
            <a:r>
              <a:rPr b="1" lang="ru-RU" sz="2500" spc="-1" strike="noStrike">
                <a:solidFill>
                  <a:srgbClr val="11488b"/>
                </a:solidFill>
                <a:latin typeface="Trebuchet MS"/>
              </a:rPr>
              <a:t> 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2"/>
          <p:cNvSpPr/>
          <p:nvPr/>
        </p:nvSpPr>
        <p:spPr>
          <a:xfrm>
            <a:off x="285840" y="1285920"/>
            <a:ext cx="635796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Неровно успевающ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Выбивающийся из общего темп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Странный в поведении, непонятн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Занятый своими делами (индивидуалист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Не умеющий общаться, конфликтн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Иногда тугодум, не может понять очевидног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Выскакивающий на уроке с нелепыми замечания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Не всегда подчиняющийся большинству или официальному руководств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3" name="Picture 3" descr=""/>
          <p:cNvPicPr/>
          <p:nvPr/>
        </p:nvPicPr>
        <p:blipFill>
          <a:blip r:embed="rId1"/>
          <a:stretch/>
        </p:blipFill>
        <p:spPr>
          <a:xfrm>
            <a:off x="6643800" y="1428840"/>
            <a:ext cx="2307960" cy="300024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4"/>
          <p:cNvSpPr/>
          <p:nvPr/>
        </p:nvSpPr>
        <p:spPr>
          <a:xfrm>
            <a:off x="1071720" y="5572080"/>
            <a:ext cx="785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в большей мере относится    к творчески одарённым.  Творческ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арённость - большое счастье и испытание для обладателей этого дара, и для учителей и родителе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1" descr=""/>
          <p:cNvPicPr/>
          <p:nvPr/>
        </p:nvPicPr>
        <p:blipFill>
          <a:blip r:embed="rId2"/>
          <a:stretch/>
        </p:blipFill>
        <p:spPr>
          <a:xfrm>
            <a:off x="463680" y="-212760"/>
            <a:ext cx="8242200" cy="1492200"/>
          </a:xfrm>
          <a:prstGeom prst="rect">
            <a:avLst/>
          </a:prstGeom>
          <a:ln w="0">
            <a:noFill/>
          </a:ln>
        </p:spPr>
      </p:pic>
      <p:sp>
        <p:nvSpPr>
          <p:cNvPr id="486" name="Text Box 2"/>
          <p:cNvSpPr/>
          <p:nvPr/>
        </p:nvSpPr>
        <p:spPr>
          <a:xfrm>
            <a:off x="250920" y="1197000"/>
            <a:ext cx="864216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овые занятия с одаренными учащимис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ивные, предпрофильные  и профильные курс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е кружки и секц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убы и студии по интереса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ая и исследовательская деятельност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олимпиадах, в том числе дистанционно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line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ы, конференции, семинар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ефисы, концерт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анционное обуче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по образовательным программам и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м планам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  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7" name="Picture 3" descr=""/>
          <p:cNvPicPr/>
          <p:nvPr/>
        </p:nvPicPr>
        <p:blipFill>
          <a:blip r:embed="rId3"/>
          <a:stretch/>
        </p:blipFill>
        <p:spPr>
          <a:xfrm>
            <a:off x="6659640" y="3933720"/>
            <a:ext cx="1886040" cy="1905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1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11488b"/>
                </a:solidFill>
                <a:latin typeface="Trebuchet MS"/>
              </a:rPr>
              <a:t>Ниже даны личностные и деловые качества учеников.  Отметьте знаком (+) те качества, которые Вам нравятся в учениках, а знаком (-) те, что не нравятс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2"/>
          <p:cNvSpPr/>
          <p:nvPr/>
        </p:nvSpPr>
        <p:spPr>
          <a:xfrm>
            <a:off x="214200" y="692280"/>
            <a:ext cx="8750520" cy="61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исциплинированны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. Неровно успевающ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3. Организованны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4. Выбивающийся из общего темп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5. Эрудированны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6. Странный в поведении, непонятны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7. Умеющий поддержать общее дело (коллективист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8. Выскакивающий на уроке с нелепыми замечания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9. Стабильно успевающий (всегда хорошо учится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10. Занятый своими делами (индивидуалист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11. Быстро, на лету схватывающ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12. Не умеющий общаться, конфликтны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13. Общающийся легко, приятный в общен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14. Иногда тугодум, не может понять очевидног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15. Ясно, понятно для всех выражающий свои мысли и цел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16. Не всегда подчиняющийся большинству или официальному руководств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1"/>
          <p:cNvSpPr/>
          <p:nvPr/>
        </p:nvSpPr>
        <p:spPr>
          <a:xfrm>
            <a:off x="457200" y="274680"/>
            <a:ext cx="8075520" cy="20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0504d"/>
                </a:solidFill>
                <a:latin typeface="VivaldiD CL"/>
              </a:rPr>
              <a:t>Каких «+» у Вас больше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2"/>
          <p:cNvSpPr/>
          <p:nvPr/>
        </p:nvSpPr>
        <p:spPr>
          <a:xfrm>
            <a:off x="468360" y="2276640"/>
            <a:ext cx="7467480" cy="42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1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820800"/>
                <a:tab algn="l" pos="1735200"/>
                <a:tab algn="l" pos="2649600"/>
                <a:tab algn="l" pos="3564000"/>
                <a:tab algn="l" pos="4478400"/>
                <a:tab algn="l" pos="5392800"/>
                <a:tab algn="l" pos="6307200"/>
                <a:tab algn="l" pos="7221600"/>
                <a:tab algn="l" pos="8136000"/>
                <a:tab algn="l" pos="9050400"/>
                <a:tab algn="l" pos="9964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820800"/>
                <a:tab algn="l" pos="1735200"/>
                <a:tab algn="l" pos="2649600"/>
                <a:tab algn="l" pos="3564000"/>
                <a:tab algn="l" pos="4478400"/>
                <a:tab algn="l" pos="5392800"/>
                <a:tab algn="l" pos="6307200"/>
                <a:tab algn="l" pos="7221600"/>
                <a:tab algn="l" pos="8136000"/>
                <a:tab algn="l" pos="9050400"/>
                <a:tab algn="l" pos="9964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Если чётных «+» больше, то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820800"/>
                <a:tab algn="l" pos="1735200"/>
                <a:tab algn="l" pos="2649600"/>
                <a:tab algn="l" pos="3564000"/>
                <a:tab algn="l" pos="4478400"/>
                <a:tab algn="l" pos="5392800"/>
                <a:tab algn="l" pos="6307200"/>
                <a:tab algn="l" pos="7221600"/>
                <a:tab algn="l" pos="8136000"/>
                <a:tab algn="l" pos="9050400"/>
                <a:tab algn="l" pos="9964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Вы – нестандартный учитель, умеющий обнаружить, выявить, разглядеть скрытую незаурядную одарённость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1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820800"/>
                <a:tab algn="l" pos="1735200"/>
                <a:tab algn="l" pos="2649600"/>
                <a:tab algn="l" pos="3564000"/>
                <a:tab algn="l" pos="4478400"/>
                <a:tab algn="l" pos="5392800"/>
                <a:tab algn="l" pos="6307200"/>
                <a:tab algn="l" pos="7221600"/>
                <a:tab algn="l" pos="8136000"/>
                <a:tab algn="l" pos="9050400"/>
                <a:tab algn="l" pos="9964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4" descr=""/>
          <p:cNvPicPr/>
          <p:nvPr/>
        </p:nvPicPr>
        <p:blipFill>
          <a:blip r:embed="rId1"/>
          <a:stretch/>
        </p:blipFill>
        <p:spPr>
          <a:xfrm>
            <a:off x="6313320" y="612720"/>
            <a:ext cx="2543400" cy="16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4,117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4,117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Group 1"/>
          <p:cNvGrpSpPr/>
          <p:nvPr/>
        </p:nvGrpSpPr>
        <p:grpSpPr>
          <a:xfrm>
            <a:off x="596880" y="4711680"/>
            <a:ext cx="8083440" cy="1816200"/>
            <a:chOff x="596880" y="4711680"/>
            <a:chExt cx="8083440" cy="1816200"/>
          </a:xfrm>
        </p:grpSpPr>
        <p:pic>
          <p:nvPicPr>
            <p:cNvPr id="426" name="Picture 2" descr=""/>
            <p:cNvPicPr/>
            <p:nvPr/>
          </p:nvPicPr>
          <p:blipFill>
            <a:blip r:embed="rId2"/>
            <a:stretch/>
          </p:blipFill>
          <p:spPr>
            <a:xfrm>
              <a:off x="596880" y="4711680"/>
              <a:ext cx="8083440" cy="18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Text Box 3"/>
            <p:cNvSpPr/>
            <p:nvPr/>
          </p:nvSpPr>
          <p:spPr>
            <a:xfrm>
              <a:off x="700200" y="4813200"/>
              <a:ext cx="788184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8" name="Group 4"/>
          <p:cNvGrpSpPr/>
          <p:nvPr/>
        </p:nvGrpSpPr>
        <p:grpSpPr>
          <a:xfrm>
            <a:off x="384120" y="249120"/>
            <a:ext cx="8515440" cy="1817640"/>
            <a:chOff x="384120" y="249120"/>
            <a:chExt cx="8515440" cy="1817640"/>
          </a:xfrm>
        </p:grpSpPr>
        <p:pic>
          <p:nvPicPr>
            <p:cNvPr id="429" name="Picture 5" descr=""/>
            <p:cNvPicPr/>
            <p:nvPr/>
          </p:nvPicPr>
          <p:blipFill>
            <a:blip r:embed="rId3"/>
            <a:stretch/>
          </p:blipFill>
          <p:spPr>
            <a:xfrm>
              <a:off x="384120" y="249120"/>
              <a:ext cx="851544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Text Box 6"/>
            <p:cNvSpPr/>
            <p:nvPr/>
          </p:nvSpPr>
          <p:spPr>
            <a:xfrm>
              <a:off x="484200" y="349200"/>
              <a:ext cx="831384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1" name="Group 7"/>
          <p:cNvGrpSpPr/>
          <p:nvPr/>
        </p:nvGrpSpPr>
        <p:grpSpPr>
          <a:xfrm>
            <a:off x="1036800" y="4718160"/>
            <a:ext cx="7497720" cy="2139840"/>
            <a:chOff x="1036800" y="4718160"/>
            <a:chExt cx="7497720" cy="2139840"/>
          </a:xfrm>
        </p:grpSpPr>
        <p:pic>
          <p:nvPicPr>
            <p:cNvPr id="432" name="Picture 8" descr=""/>
            <p:cNvPicPr/>
            <p:nvPr/>
          </p:nvPicPr>
          <p:blipFill>
            <a:blip r:embed="rId4"/>
            <a:stretch/>
          </p:blipFill>
          <p:spPr>
            <a:xfrm>
              <a:off x="1036800" y="4718160"/>
              <a:ext cx="7497720" cy="21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Text Box 9"/>
            <p:cNvSpPr/>
            <p:nvPr/>
          </p:nvSpPr>
          <p:spPr>
            <a:xfrm>
              <a:off x="1042920" y="4724280"/>
              <a:ext cx="7483680" cy="21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200" spc="-1" strike="noStrike">
                  <a:solidFill>
                    <a:srgbClr val="0070c0"/>
                  </a:solidFill>
                  <a:latin typeface="Calibri"/>
                </a:rPr>
                <a:t> </a:t>
              </a:r>
              <a:r>
                <a:rPr b="1" i="1" lang="ru-RU" sz="2800" spc="-1" strike="noStrike">
                  <a:solidFill>
                    <a:srgbClr val="376092"/>
                  </a:solidFill>
                  <a:latin typeface="Times New Roman"/>
                  <a:ea typeface="Times New Roman"/>
                </a:rPr>
                <a:t>«В душе каждого ребенка есть невидимые струны. Если тронуть их умелой рукой, они красиво зазвучат».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60000"/>
                </a:lnSpc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.А.Сухомлински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000" spc="-1" strike="noStrike">
                  <a:solidFill>
                    <a:srgbClr val="ff0000"/>
                  </a:solidFill>
                  <a:latin typeface="Monotype Corsiva"/>
                </a:rPr>
                <a:t>            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4" name="Text Box 10"/>
          <p:cNvSpPr/>
          <p:nvPr/>
        </p:nvSpPr>
        <p:spPr>
          <a:xfrm>
            <a:off x="539640" y="260280"/>
            <a:ext cx="8136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Давно замечено, что таланты являются всюду и всегда, где и когда существуют условия, благоприятные для их развития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В. Плехан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Group 11"/>
          <p:cNvGrpSpPr/>
          <p:nvPr/>
        </p:nvGrpSpPr>
        <p:grpSpPr>
          <a:xfrm>
            <a:off x="1316160" y="2193840"/>
            <a:ext cx="6791040" cy="2249640"/>
            <a:chOff x="1316160" y="2193840"/>
            <a:chExt cx="6791040" cy="2249640"/>
          </a:xfrm>
        </p:grpSpPr>
        <p:pic>
          <p:nvPicPr>
            <p:cNvPr id="436" name="Picture 12" descr=""/>
            <p:cNvPicPr/>
            <p:nvPr/>
          </p:nvPicPr>
          <p:blipFill>
            <a:blip r:embed="rId5"/>
            <a:stretch/>
          </p:blipFill>
          <p:spPr>
            <a:xfrm>
              <a:off x="1316160" y="2193840"/>
              <a:ext cx="6791040" cy="224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Text Box 13"/>
            <p:cNvSpPr/>
            <p:nvPr/>
          </p:nvSpPr>
          <p:spPr>
            <a:xfrm>
              <a:off x="1440000" y="2314440"/>
              <a:ext cx="6545160" cy="20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800" spc="-1" strike="noStrike">
                  <a:solidFill>
                    <a:srgbClr val="376092"/>
                  </a:solidFill>
                  <a:latin typeface="Times New Roman"/>
                  <a:ea typeface="Times New Roman"/>
                </a:rPr>
                <a:t>«Гениальность может оказаться лишь мимолетным шансом. Только работа и воля могут дать ей жизнь и обратить ее в славу»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амю А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38" name="Picture 14" descr=""/>
          <p:cNvPicPr/>
          <p:nvPr/>
        </p:nvPicPr>
        <p:blipFill>
          <a:blip r:embed="rId6"/>
          <a:stretch/>
        </p:blipFill>
        <p:spPr>
          <a:xfrm>
            <a:off x="-384120" y="1895400"/>
            <a:ext cx="2487600" cy="2438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1" descr=""/>
          <p:cNvPicPr/>
          <p:nvPr/>
        </p:nvPicPr>
        <p:blipFill>
          <a:blip r:embed="rId2"/>
          <a:stretch/>
        </p:blipFill>
        <p:spPr>
          <a:xfrm>
            <a:off x="463680" y="-648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495" name="Text Box 2"/>
          <p:cNvSpPr/>
          <p:nvPr/>
        </p:nvSpPr>
        <p:spPr>
          <a:xfrm>
            <a:off x="250920" y="981000"/>
            <a:ext cx="4244760" cy="50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 для одаренных де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лассе должен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атывать гибкие, индивидуализированные программ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вать теплую, эмоционально безопасную атмосферу в класс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ть учащимся обратную связь; используя различные  стратегии обуче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ажать личность ребёнка, способствовать формированию положительной самооценки ученика, уважать его ценн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ощрять творчество и инициатив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ровать развитие умственных процессов высшего уровн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являть уважение к индивидуальности учен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3"/>
          <p:cNvSpPr/>
          <p:nvPr/>
        </p:nvSpPr>
        <p:spPr>
          <a:xfrm>
            <a:off x="4500720" y="981000"/>
            <a:ext cx="4464000" cy="51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ешный учитель для одарен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жде всего прекрасный учитель- предметник, глубоко знающий и любящий свой предм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должен обладать такими качествами, которые существенны в общении с любым одаренным школьник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ец, учителю необходимы особые качества, связанные с определенным типом одаренности: интеллектуальной, творческой, социальной, психомоторной, художественной, социальн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1" descr=""/>
          <p:cNvPicPr/>
          <p:nvPr/>
        </p:nvPicPr>
        <p:blipFill>
          <a:blip r:embed="rId2"/>
          <a:stretch/>
        </p:blipFill>
        <p:spPr>
          <a:xfrm>
            <a:off x="450720" y="60480"/>
            <a:ext cx="8242560" cy="1493640"/>
          </a:xfrm>
          <a:prstGeom prst="rect">
            <a:avLst/>
          </a:prstGeom>
          <a:ln w="0">
            <a:noFill/>
          </a:ln>
        </p:spPr>
      </p:pic>
      <p:sp>
        <p:nvSpPr>
          <p:cNvPr id="49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образовательного пространства,  поддерживающего творческую среду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чное пространств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урочная деятельн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е образование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4" descr=""/>
          <p:cNvPicPr/>
          <p:nvPr/>
        </p:nvPicPr>
        <p:blipFill>
          <a:blip r:embed="rId3"/>
          <a:stretch/>
        </p:blipFill>
        <p:spPr>
          <a:xfrm>
            <a:off x="4572000" y="2997360"/>
            <a:ext cx="3745080" cy="2806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1" descr=""/>
          <p:cNvPicPr/>
          <p:nvPr/>
        </p:nvPicPr>
        <p:blipFill>
          <a:blip r:embed="rId2"/>
          <a:stretch/>
        </p:blipFill>
        <p:spPr>
          <a:xfrm>
            <a:off x="504720" y="393840"/>
            <a:ext cx="8423280" cy="5149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1"/>
          <p:cNvSpPr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57480" indent="-889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2574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791640"/>
                <a:tab algn="l" pos="102409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257480" indent="-889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2574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791640"/>
                <a:tab algn="l" pos="1024092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Если ты не можешь быть широкой   дорогой, будь узенькой тропинк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257480" indent="-889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2574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791640"/>
                <a:tab algn="l" pos="1024092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сли ты не можешь быть солнцем, будь звездой на неб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257480" indent="-889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2574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791640"/>
                <a:tab algn="l" pos="1024092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олько найди свое дело и старайся стать самым лучшим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257480" indent="-8892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574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791640"/>
                <a:tab algn="l" pos="1024092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глас Мэлло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257480" indent="-889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2574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791640"/>
                <a:tab algn="l" pos="10240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2"/>
          <p:cNvSpPr/>
          <p:nvPr/>
        </p:nvSpPr>
        <p:spPr>
          <a:xfrm>
            <a:off x="684360" y="26028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e20000"/>
                </a:solidFill>
                <a:latin typeface="Times New Roman"/>
                <a:ea typeface="Times New Roman"/>
              </a:rPr>
              <a:t>Взгляните на своих детей и воспитанников. Посмотрите в их глаза. Может быть именно они - гении? Возможно, эти ребята талантливы? Или одарен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1" descr=""/>
          <p:cNvPicPr/>
          <p:nvPr/>
        </p:nvPicPr>
        <p:blipFill>
          <a:blip r:embed="rId1"/>
          <a:stretch/>
        </p:blipFill>
        <p:spPr>
          <a:xfrm>
            <a:off x="792000" y="431640"/>
            <a:ext cx="7560000" cy="4751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1" descr=""/>
          <p:cNvPicPr/>
          <p:nvPr/>
        </p:nvPicPr>
        <p:blipFill>
          <a:blip r:embed="rId1"/>
          <a:stretch/>
        </p:blipFill>
        <p:spPr>
          <a:xfrm>
            <a:off x="0" y="720720"/>
            <a:ext cx="8423280" cy="4032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16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2" name="Group 4"/>
          <p:cNvGrpSpPr/>
          <p:nvPr/>
        </p:nvGrpSpPr>
        <p:grpSpPr>
          <a:xfrm>
            <a:off x="152280" y="152280"/>
            <a:ext cx="8452080" cy="4932360"/>
            <a:chOff x="152280" y="152280"/>
            <a:chExt cx="8452080" cy="4932360"/>
          </a:xfrm>
        </p:grpSpPr>
        <p:sp>
          <p:nvSpPr>
            <p:cNvPr id="443" name="Rectangle 5"/>
            <p:cNvSpPr/>
            <p:nvPr/>
          </p:nvSpPr>
          <p:spPr>
            <a:xfrm>
              <a:off x="152280" y="152280"/>
              <a:ext cx="8452080" cy="49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_s1394"/>
            <p:cNvSpPr/>
            <p:nvPr/>
          </p:nvSpPr>
          <p:spPr>
            <a:xfrm flipH="1" flipV="1">
              <a:off x="2639160" y="2030040"/>
              <a:ext cx="868320" cy="291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Text Box 7"/>
            <p:cNvSpPr/>
            <p:nvPr/>
          </p:nvSpPr>
          <p:spPr>
            <a:xfrm>
              <a:off x="680400" y="668520"/>
              <a:ext cx="2288520" cy="16527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3333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С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«Пеликан»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_s1392"/>
            <p:cNvSpPr/>
            <p:nvPr/>
          </p:nvSpPr>
          <p:spPr>
            <a:xfrm flipH="1">
              <a:off x="2639160" y="2912040"/>
              <a:ext cx="868320" cy="291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Text Box 9"/>
            <p:cNvSpPr/>
            <p:nvPr/>
          </p:nvSpPr>
          <p:spPr>
            <a:xfrm>
              <a:off x="504360" y="2910240"/>
              <a:ext cx="2270520" cy="16531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3333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_s1390"/>
            <p:cNvSpPr/>
            <p:nvPr/>
          </p:nvSpPr>
          <p:spPr>
            <a:xfrm>
              <a:off x="4378680" y="3204720"/>
              <a:ext cx="0" cy="5842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Text Box 11"/>
            <p:cNvSpPr/>
            <p:nvPr/>
          </p:nvSpPr>
          <p:spPr>
            <a:xfrm>
              <a:off x="3375000" y="3528000"/>
              <a:ext cx="2059200" cy="14324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3333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ектная и исследовательская деятельность  на уроке и во внеурочной деятельности</a:t>
              </a:r>
              <a:r>
                <a:rPr b="1" lang="en-GB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_s1388"/>
            <p:cNvSpPr/>
            <p:nvPr/>
          </p:nvSpPr>
          <p:spPr>
            <a:xfrm>
              <a:off x="5247360" y="2912040"/>
              <a:ext cx="868680" cy="291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 Box 13"/>
            <p:cNvSpPr/>
            <p:nvPr/>
          </p:nvSpPr>
          <p:spPr>
            <a:xfrm>
              <a:off x="5981040" y="2910240"/>
              <a:ext cx="2093400" cy="16531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3333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_s1386"/>
            <p:cNvSpPr/>
            <p:nvPr/>
          </p:nvSpPr>
          <p:spPr>
            <a:xfrm flipV="1">
              <a:off x="5247360" y="2031480"/>
              <a:ext cx="868680" cy="291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15"/>
            <p:cNvSpPr/>
            <p:nvPr/>
          </p:nvSpPr>
          <p:spPr>
            <a:xfrm>
              <a:off x="5981040" y="668520"/>
              <a:ext cx="2269800" cy="16527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3333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ш</a:t>
              </a: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льн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ю</a:t>
              </a: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конференци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ю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ектных и исследовательских работ «Пытливости нашей нет конца»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_s1384"/>
            <p:cNvSpPr/>
            <p:nvPr/>
          </p:nvSpPr>
          <p:spPr>
            <a:xfrm flipV="1">
              <a:off x="4378680" y="1446120"/>
              <a:ext cx="0" cy="583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Text Box 17"/>
            <p:cNvSpPr/>
            <p:nvPr/>
          </p:nvSpPr>
          <p:spPr>
            <a:xfrm>
              <a:off x="3322080" y="410040"/>
              <a:ext cx="2288160" cy="1295280"/>
            </a:xfrm>
            <a:prstGeom prst="rect">
              <a:avLst/>
            </a:prstGeom>
            <a:solidFill>
              <a:srgbClr val="c2d3e8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243f6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сероссийскую о</a:t>
              </a: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импиад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 школьников</a:t>
              </a: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курсы, конференции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разного уровн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18"/>
            <p:cNvSpPr/>
            <p:nvPr/>
          </p:nvSpPr>
          <p:spPr>
            <a:xfrm>
              <a:off x="3375000" y="2033280"/>
              <a:ext cx="2006280" cy="1170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99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рганизация работы через: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7" name="Прямоугольник 17"/>
          <p:cNvSpPr/>
          <p:nvPr/>
        </p:nvSpPr>
        <p:spPr>
          <a:xfrm>
            <a:off x="504720" y="2746440"/>
            <a:ext cx="2270160" cy="17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взаимодействие с  учреждениями дополнительного образования, учреждениями культуры и спорта  города Коммунара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Прямоугольник 18"/>
          <p:cNvSpPr/>
          <p:nvPr/>
        </p:nvSpPr>
        <p:spPr>
          <a:xfrm>
            <a:off x="6033960" y="2905200"/>
            <a:ext cx="2041560" cy="15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ализацию внутришкольной системы дополнительного образования: кружки, секции и д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Всероссийская олимпиада школьн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250920" y="1773360"/>
          <a:ext cx="8208720" cy="3084480"/>
        </p:xfrm>
        <a:graphic>
          <a:graphicData uri="http://schemas.openxmlformats.org/drawingml/2006/table">
            <a:tbl>
              <a:tblPr/>
              <a:tblGrid>
                <a:gridCol w="1298520"/>
                <a:gridCol w="690480"/>
                <a:gridCol w="806400"/>
                <a:gridCol w="806400"/>
                <a:gridCol w="690840"/>
                <a:gridCol w="806400"/>
                <a:gridCol w="806400"/>
                <a:gridCol w="692280"/>
                <a:gridCol w="806400"/>
                <a:gridCol w="804600"/>
              </a:tblGrid>
              <a:tr h="2584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ебный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кольный этап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ниципальный этап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гиональный этап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ников (чел.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призеров и победителей (чел.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ников (чел.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призеров и победителей (чел.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ников (чел.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призеров и победителей (чел.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17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-20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19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-20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17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-20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онкурсное движ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457200" y="1628640"/>
          <a:ext cx="8223120" cy="3168720"/>
        </p:xfrm>
        <a:graphic>
          <a:graphicData uri="http://schemas.openxmlformats.org/drawingml/2006/table">
            <a:tbl>
              <a:tblPr/>
              <a:tblGrid>
                <a:gridCol w="2739960"/>
                <a:gridCol w="2741760"/>
                <a:gridCol w="2741400"/>
              </a:tblGrid>
              <a:tr h="126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ебный г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ичество обучающихся, принявших участие, чел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ля участников от общего числа обучающихся,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35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-20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33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-20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33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-20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,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1"/>
          <p:cNvSpPr/>
          <p:nvPr/>
        </p:nvSpPr>
        <p:spPr>
          <a:xfrm>
            <a:off x="7981920" y="263520"/>
            <a:ext cx="66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3B85DD-0D2B-4CAF-B802-81CFD20D589B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1079640" y="947880"/>
            <a:ext cx="7216560" cy="2197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Что же такое «одаренность»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даренност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уммарное, общее личностное свойство челове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1079640" y="3005280"/>
            <a:ext cx="721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даренност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истемное, развивающееся в течение жизни качество психики, которое определяет возможность достижения человеком более высоких (необычных, незаурядных) результатов в одном или нескольких видах деятельности по сравнению с другими людь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1"/>
          <p:cNvSpPr/>
          <p:nvPr/>
        </p:nvSpPr>
        <p:spPr>
          <a:xfrm>
            <a:off x="73080" y="360360"/>
            <a:ext cx="84819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Виды одарённост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7" name="Picture 2" descr=""/>
          <p:cNvPicPr/>
          <p:nvPr/>
        </p:nvPicPr>
        <p:blipFill>
          <a:blip r:embed="rId1"/>
          <a:stretch/>
        </p:blipFill>
        <p:spPr>
          <a:xfrm>
            <a:off x="4680" y="1224000"/>
            <a:ext cx="8562960" cy="424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14:46:51Z</dcterms:created>
  <dc:creator>Летягина</dc:creator>
  <dc:description/>
  <dc:language>en-US</dc:language>
  <cp:lastModifiedBy>Владелец</cp:lastModifiedBy>
  <cp:lastPrinted>2018-12-07T10:50:48Z</cp:lastPrinted>
  <dcterms:modified xsi:type="dcterms:W3CDTF">2018-12-07T10:57:24Z</dcterms:modified>
  <cp:revision>19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a190000000000010243100207f6000400038000</vt:lpwstr>
  </property>
</Properties>
</file>